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AB91-2567-4B14-A908-1A910D8A8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8CF4-8612-4F75-959D-22FD761B3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2538000"/>
            <a:ext cx="5943600" cy="54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C5C8-3444-4F04-BE0B-0CF0F1E8E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2538000"/>
            <a:ext cx="5943600" cy="54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C5EF-1B86-4A78-BF32-58931A03C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2538360"/>
            <a:ext cx="594360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D839-7DEE-483E-8E3B-2EBEF23CC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2538360"/>
            <a:ext cx="594360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20EB-6D20-4D71-83E6-AE0DA5B82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2538360"/>
            <a:ext cx="594360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B3D3-9B0D-44C6-AE33-D1DD97F16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2538000"/>
            <a:ext cx="5943600" cy="54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9384-3E2B-41AE-93FC-E4D192B05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2538000"/>
            <a:ext cx="5943600" cy="54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1857B-1398-42C0-9CFF-42555DC5C7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50680" y="373896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3D1D0-87AA-4FED-80F8-0D0A55FC3D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224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F68E8-8219-4807-A7BD-7725278C84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424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5780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5068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0424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5780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9C067-1CE9-4524-A277-5BC1418891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50680" y="154944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981080" y="353880"/>
            <a:ext cx="655344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50680" y="154944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AF05C-E402-42D4-A9BD-EBAF4D2E3D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7224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50680" y="373896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7224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424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780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5068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424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780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D1781-B781-485F-9B5C-622E7FF8CE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6A36A-DFFA-48D3-8ADA-45F4AEFEAC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B88D5-A3F1-4A08-9A61-C89C348052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981080" y="353880"/>
            <a:ext cx="655344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5D51D-3F41-4764-AD79-62C7147F02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019CD-FB00-4DA1-80C4-02A77E884F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224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942E1-E6E4-470F-93A8-8C2348D89B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75778-F608-4631-ACCB-6333194408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5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b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753080" y="6311520"/>
            <a:ext cx="838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06D0-AC3D-4ABB-9E3E-B25AEE62A5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236680" y="6311520"/>
            <a:ext cx="289584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50920" y="271440"/>
            <a:ext cx="1718640" cy="6294240"/>
            <a:chOff x="250920" y="271440"/>
            <a:chExt cx="1718640" cy="6294240"/>
          </a:xfrm>
        </p:grpSpPr>
        <p:sp>
          <p:nvSpPr>
            <p:cNvPr id="3" name=""/>
            <p:cNvSpPr/>
            <p:nvPr/>
          </p:nvSpPr>
          <p:spPr>
            <a:xfrm>
              <a:off x="620640" y="271440"/>
              <a:ext cx="917640" cy="954000"/>
            </a:xfrm>
            <a:custGeom>
              <a:avLst/>
              <a:gdLst/>
              <a:ahLst/>
              <a:rect l="l" t="t" r="r" b="b"/>
              <a:pathLst>
                <a:path w="955" h="922">
                  <a:moveTo>
                    <a:pt x="720" y="663"/>
                  </a:moveTo>
                  <a:lnTo>
                    <a:pt x="739" y="622"/>
                  </a:lnTo>
                  <a:lnTo>
                    <a:pt x="758" y="573"/>
                  </a:lnTo>
                  <a:lnTo>
                    <a:pt x="836" y="330"/>
                  </a:lnTo>
                  <a:lnTo>
                    <a:pt x="849" y="284"/>
                  </a:lnTo>
                  <a:lnTo>
                    <a:pt x="858" y="244"/>
                  </a:lnTo>
                  <a:lnTo>
                    <a:pt x="865" y="208"/>
                  </a:lnTo>
                  <a:lnTo>
                    <a:pt x="867" y="175"/>
                  </a:lnTo>
                  <a:lnTo>
                    <a:pt x="866" y="154"/>
                  </a:lnTo>
                  <a:lnTo>
                    <a:pt x="862" y="134"/>
                  </a:lnTo>
                  <a:lnTo>
                    <a:pt x="858" y="116"/>
                  </a:lnTo>
                  <a:lnTo>
                    <a:pt x="850" y="99"/>
                  </a:lnTo>
                  <a:lnTo>
                    <a:pt x="841" y="83"/>
                  </a:lnTo>
                  <a:lnTo>
                    <a:pt x="829" y="69"/>
                  </a:lnTo>
                  <a:lnTo>
                    <a:pt x="815" y="55"/>
                  </a:lnTo>
                  <a:lnTo>
                    <a:pt x="798" y="44"/>
                  </a:lnTo>
                  <a:lnTo>
                    <a:pt x="780" y="34"/>
                  </a:lnTo>
                  <a:lnTo>
                    <a:pt x="758" y="25"/>
                  </a:lnTo>
                  <a:lnTo>
                    <a:pt x="732" y="17"/>
                  </a:lnTo>
                  <a:lnTo>
                    <a:pt x="705" y="12"/>
                  </a:lnTo>
                  <a:lnTo>
                    <a:pt x="674" y="7"/>
                  </a:lnTo>
                  <a:lnTo>
                    <a:pt x="641" y="3"/>
                  </a:lnTo>
                  <a:lnTo>
                    <a:pt x="564" y="0"/>
                  </a:lnTo>
                  <a:lnTo>
                    <a:pt x="459" y="0"/>
                  </a:lnTo>
                  <a:lnTo>
                    <a:pt x="388" y="1"/>
                  </a:lnTo>
                  <a:lnTo>
                    <a:pt x="328" y="7"/>
                  </a:lnTo>
                  <a:lnTo>
                    <a:pt x="300" y="11"/>
                  </a:lnTo>
                  <a:lnTo>
                    <a:pt x="276" y="17"/>
                  </a:lnTo>
                  <a:lnTo>
                    <a:pt x="253" y="26"/>
                  </a:lnTo>
                  <a:lnTo>
                    <a:pt x="231" y="37"/>
                  </a:lnTo>
                  <a:lnTo>
                    <a:pt x="211" y="50"/>
                  </a:lnTo>
                  <a:lnTo>
                    <a:pt x="191" y="67"/>
                  </a:lnTo>
                  <a:lnTo>
                    <a:pt x="173" y="86"/>
                  </a:lnTo>
                  <a:lnTo>
                    <a:pt x="157" y="109"/>
                  </a:lnTo>
                  <a:lnTo>
                    <a:pt x="140" y="137"/>
                  </a:lnTo>
                  <a:lnTo>
                    <a:pt x="125" y="168"/>
                  </a:lnTo>
                  <a:lnTo>
                    <a:pt x="110" y="203"/>
                  </a:lnTo>
                  <a:lnTo>
                    <a:pt x="95" y="243"/>
                  </a:lnTo>
                  <a:lnTo>
                    <a:pt x="28" y="457"/>
                  </a:lnTo>
                  <a:lnTo>
                    <a:pt x="13" y="512"/>
                  </a:lnTo>
                  <a:lnTo>
                    <a:pt x="5" y="561"/>
                  </a:lnTo>
                  <a:lnTo>
                    <a:pt x="0" y="604"/>
                  </a:lnTo>
                  <a:lnTo>
                    <a:pt x="2" y="642"/>
                  </a:lnTo>
                  <a:lnTo>
                    <a:pt x="8" y="675"/>
                  </a:lnTo>
                  <a:lnTo>
                    <a:pt x="18" y="703"/>
                  </a:lnTo>
                  <a:lnTo>
                    <a:pt x="32" y="728"/>
                  </a:lnTo>
                  <a:lnTo>
                    <a:pt x="49" y="748"/>
                  </a:lnTo>
                  <a:lnTo>
                    <a:pt x="68" y="764"/>
                  </a:lnTo>
                  <a:lnTo>
                    <a:pt x="91" y="778"/>
                  </a:lnTo>
                  <a:lnTo>
                    <a:pt x="115" y="787"/>
                  </a:lnTo>
                  <a:lnTo>
                    <a:pt x="141" y="796"/>
                  </a:lnTo>
                  <a:lnTo>
                    <a:pt x="168" y="801"/>
                  </a:lnTo>
                  <a:lnTo>
                    <a:pt x="196" y="804"/>
                  </a:lnTo>
                  <a:lnTo>
                    <a:pt x="253" y="806"/>
                  </a:lnTo>
                  <a:lnTo>
                    <a:pt x="296" y="806"/>
                  </a:lnTo>
                  <a:lnTo>
                    <a:pt x="308" y="791"/>
                  </a:lnTo>
                  <a:lnTo>
                    <a:pt x="322" y="776"/>
                  </a:lnTo>
                  <a:lnTo>
                    <a:pt x="355" y="749"/>
                  </a:lnTo>
                  <a:lnTo>
                    <a:pt x="394" y="723"/>
                  </a:lnTo>
                  <a:lnTo>
                    <a:pt x="438" y="703"/>
                  </a:lnTo>
                  <a:lnTo>
                    <a:pt x="486" y="686"/>
                  </a:lnTo>
                  <a:lnTo>
                    <a:pt x="539" y="674"/>
                  </a:lnTo>
                  <a:lnTo>
                    <a:pt x="596" y="666"/>
                  </a:lnTo>
                  <a:lnTo>
                    <a:pt x="654" y="663"/>
                  </a:lnTo>
                  <a:lnTo>
                    <a:pt x="680" y="664"/>
                  </a:lnTo>
                  <a:lnTo>
                    <a:pt x="680" y="664"/>
                  </a:lnTo>
                  <a:lnTo>
                    <a:pt x="645" y="666"/>
                  </a:lnTo>
                  <a:lnTo>
                    <a:pt x="611" y="671"/>
                  </a:lnTo>
                  <a:lnTo>
                    <a:pt x="578" y="679"/>
                  </a:lnTo>
                  <a:lnTo>
                    <a:pt x="546" y="688"/>
                  </a:lnTo>
                  <a:lnTo>
                    <a:pt x="516" y="700"/>
                  </a:lnTo>
                  <a:lnTo>
                    <a:pt x="487" y="713"/>
                  </a:lnTo>
                  <a:lnTo>
                    <a:pt x="460" y="728"/>
                  </a:lnTo>
                  <a:lnTo>
                    <a:pt x="436" y="744"/>
                  </a:lnTo>
                  <a:lnTo>
                    <a:pt x="413" y="762"/>
                  </a:lnTo>
                  <a:lnTo>
                    <a:pt x="392" y="782"/>
                  </a:lnTo>
                  <a:lnTo>
                    <a:pt x="374" y="802"/>
                  </a:lnTo>
                  <a:lnTo>
                    <a:pt x="358" y="824"/>
                  </a:lnTo>
                  <a:lnTo>
                    <a:pt x="345" y="848"/>
                  </a:lnTo>
                  <a:lnTo>
                    <a:pt x="335" y="871"/>
                  </a:lnTo>
                  <a:lnTo>
                    <a:pt x="328" y="896"/>
                  </a:lnTo>
                  <a:lnTo>
                    <a:pt x="324" y="922"/>
                  </a:lnTo>
                  <a:lnTo>
                    <a:pt x="344" y="897"/>
                  </a:lnTo>
                  <a:lnTo>
                    <a:pt x="368" y="875"/>
                  </a:lnTo>
                  <a:lnTo>
                    <a:pt x="397" y="855"/>
                  </a:lnTo>
                  <a:lnTo>
                    <a:pt x="429" y="838"/>
                  </a:lnTo>
                  <a:lnTo>
                    <a:pt x="464" y="825"/>
                  </a:lnTo>
                  <a:lnTo>
                    <a:pt x="502" y="815"/>
                  </a:lnTo>
                  <a:lnTo>
                    <a:pt x="542" y="808"/>
                  </a:lnTo>
                  <a:lnTo>
                    <a:pt x="582" y="806"/>
                  </a:lnTo>
                  <a:lnTo>
                    <a:pt x="911" y="806"/>
                  </a:lnTo>
                  <a:lnTo>
                    <a:pt x="955" y="663"/>
                  </a:lnTo>
                  <a:lnTo>
                    <a:pt x="720" y="663"/>
                  </a:lnTo>
                  <a:close/>
                  <a:moveTo>
                    <a:pt x="601" y="300"/>
                  </a:moveTo>
                  <a:lnTo>
                    <a:pt x="524" y="540"/>
                  </a:lnTo>
                  <a:lnTo>
                    <a:pt x="512" y="572"/>
                  </a:lnTo>
                  <a:lnTo>
                    <a:pt x="500" y="598"/>
                  </a:lnTo>
                  <a:lnTo>
                    <a:pt x="487" y="620"/>
                  </a:lnTo>
                  <a:lnTo>
                    <a:pt x="472" y="635"/>
                  </a:lnTo>
                  <a:lnTo>
                    <a:pt x="453" y="647"/>
                  </a:lnTo>
                  <a:lnTo>
                    <a:pt x="431" y="656"/>
                  </a:lnTo>
                  <a:lnTo>
                    <a:pt x="403" y="660"/>
                  </a:lnTo>
                  <a:lnTo>
                    <a:pt x="367" y="661"/>
                  </a:lnTo>
                  <a:lnTo>
                    <a:pt x="338" y="661"/>
                  </a:lnTo>
                  <a:lnTo>
                    <a:pt x="301" y="659"/>
                  </a:lnTo>
                  <a:lnTo>
                    <a:pt x="274" y="652"/>
                  </a:lnTo>
                  <a:lnTo>
                    <a:pt x="264" y="647"/>
                  </a:lnTo>
                  <a:lnTo>
                    <a:pt x="255" y="641"/>
                  </a:lnTo>
                  <a:lnTo>
                    <a:pt x="248" y="633"/>
                  </a:lnTo>
                  <a:lnTo>
                    <a:pt x="243" y="626"/>
                  </a:lnTo>
                  <a:lnTo>
                    <a:pt x="239" y="616"/>
                  </a:lnTo>
                  <a:lnTo>
                    <a:pt x="237" y="606"/>
                  </a:lnTo>
                  <a:lnTo>
                    <a:pt x="237" y="582"/>
                  </a:lnTo>
                  <a:lnTo>
                    <a:pt x="242" y="555"/>
                  </a:lnTo>
                  <a:lnTo>
                    <a:pt x="250" y="524"/>
                  </a:lnTo>
                  <a:lnTo>
                    <a:pt x="328" y="279"/>
                  </a:lnTo>
                  <a:lnTo>
                    <a:pt x="340" y="241"/>
                  </a:lnTo>
                  <a:lnTo>
                    <a:pt x="352" y="210"/>
                  </a:lnTo>
                  <a:lnTo>
                    <a:pt x="364" y="188"/>
                  </a:lnTo>
                  <a:lnTo>
                    <a:pt x="378" y="171"/>
                  </a:lnTo>
                  <a:lnTo>
                    <a:pt x="396" y="159"/>
                  </a:lnTo>
                  <a:lnTo>
                    <a:pt x="418" y="152"/>
                  </a:lnTo>
                  <a:lnTo>
                    <a:pt x="446" y="149"/>
                  </a:lnTo>
                  <a:lnTo>
                    <a:pt x="479" y="148"/>
                  </a:lnTo>
                  <a:lnTo>
                    <a:pt x="503" y="148"/>
                  </a:lnTo>
                  <a:lnTo>
                    <a:pt x="546" y="150"/>
                  </a:lnTo>
                  <a:lnTo>
                    <a:pt x="578" y="156"/>
                  </a:lnTo>
                  <a:lnTo>
                    <a:pt x="590" y="160"/>
                  </a:lnTo>
                  <a:lnTo>
                    <a:pt x="600" y="167"/>
                  </a:lnTo>
                  <a:lnTo>
                    <a:pt x="608" y="173"/>
                  </a:lnTo>
                  <a:lnTo>
                    <a:pt x="613" y="182"/>
                  </a:lnTo>
                  <a:lnTo>
                    <a:pt x="616" y="191"/>
                  </a:lnTo>
                  <a:lnTo>
                    <a:pt x="619" y="203"/>
                  </a:lnTo>
                  <a:lnTo>
                    <a:pt x="618" y="229"/>
                  </a:lnTo>
                  <a:lnTo>
                    <a:pt x="611" y="261"/>
                  </a:lnTo>
                  <a:lnTo>
                    <a:pt x="601" y="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250920" y="6075360"/>
              <a:ext cx="1326960" cy="2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815040" y="6273720"/>
              <a:ext cx="1154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etter answers</a:t>
              </a:r>
              <a:endParaRPr b="0" lang="en-US" sz="13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6" name="word%20bg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" name="line" descr=""/>
          <p:cNvPicPr/>
          <p:nvPr/>
        </p:nvPicPr>
        <p:blipFill>
          <a:blip r:embed="rId4"/>
          <a:srcRect l="10998" t="12000" r="0" b="82671"/>
          <a:stretch/>
        </p:blipFill>
        <p:spPr>
          <a:xfrm>
            <a:off x="1117440" y="1003320"/>
            <a:ext cx="6858000" cy="3078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850680" y="154944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630360" indent="-173160">
              <a:spcBef>
                <a:spcPts val="814"/>
              </a:spcBef>
              <a:buClr>
                <a:srgbClr val="5f72d4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2" marL="1085760" indent="-228600">
              <a:spcBef>
                <a:spcPts val="814"/>
              </a:spcBef>
              <a:buClr>
                <a:srgbClr val="83de6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3" marL="1428840" indent="-228600">
              <a:spcBef>
                <a:spcPts val="814"/>
              </a:spcBef>
              <a:buClr>
                <a:srgbClr val="160ba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4" marL="1771560" indent="-228600">
              <a:spcBef>
                <a:spcPts val="814"/>
              </a:spcBef>
              <a:buClr>
                <a:srgbClr val="160ba1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5" marL="1771560" indent="-228600">
              <a:spcBef>
                <a:spcPts val="814"/>
              </a:spcBef>
              <a:buClr>
                <a:srgbClr val="eaeaea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6" marL="1771560" indent="-228600">
              <a:spcBef>
                <a:spcPts val="814"/>
              </a:spcBef>
              <a:buClr>
                <a:srgbClr val="eaeaea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" name="www.compaq" descr=""/>
          <p:cNvPicPr/>
          <p:nvPr/>
        </p:nvPicPr>
        <p:blipFill>
          <a:blip r:embed="rId5"/>
          <a:srcRect l="69504" t="87546" r="2953" b="6545"/>
          <a:stretch/>
        </p:blipFill>
        <p:spPr>
          <a:xfrm>
            <a:off x="5867280" y="5943600"/>
            <a:ext cx="2971800" cy="47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b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2316240" cy="6858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ftr" idx="3"/>
          </p:nvPr>
        </p:nvSpPr>
        <p:spPr>
          <a:xfrm>
            <a:off x="2700000" y="6311520"/>
            <a:ext cx="289548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50920" y="271440"/>
            <a:ext cx="1718640" cy="6294240"/>
            <a:chOff x="250920" y="271440"/>
            <a:chExt cx="1718640" cy="6294240"/>
          </a:xfrm>
        </p:grpSpPr>
        <p:sp>
          <p:nvSpPr>
            <p:cNvPr id="50" name=""/>
            <p:cNvSpPr/>
            <p:nvPr/>
          </p:nvSpPr>
          <p:spPr>
            <a:xfrm>
              <a:off x="620640" y="271440"/>
              <a:ext cx="917640" cy="954000"/>
            </a:xfrm>
            <a:custGeom>
              <a:avLst/>
              <a:gdLst/>
              <a:ahLst/>
              <a:rect l="l" t="t" r="r" b="b"/>
              <a:pathLst>
                <a:path w="955" h="922">
                  <a:moveTo>
                    <a:pt x="720" y="663"/>
                  </a:moveTo>
                  <a:lnTo>
                    <a:pt x="739" y="622"/>
                  </a:lnTo>
                  <a:lnTo>
                    <a:pt x="758" y="573"/>
                  </a:lnTo>
                  <a:lnTo>
                    <a:pt x="836" y="330"/>
                  </a:lnTo>
                  <a:lnTo>
                    <a:pt x="849" y="284"/>
                  </a:lnTo>
                  <a:lnTo>
                    <a:pt x="858" y="244"/>
                  </a:lnTo>
                  <a:lnTo>
                    <a:pt x="865" y="208"/>
                  </a:lnTo>
                  <a:lnTo>
                    <a:pt x="867" y="175"/>
                  </a:lnTo>
                  <a:lnTo>
                    <a:pt x="866" y="154"/>
                  </a:lnTo>
                  <a:lnTo>
                    <a:pt x="862" y="134"/>
                  </a:lnTo>
                  <a:lnTo>
                    <a:pt x="858" y="116"/>
                  </a:lnTo>
                  <a:lnTo>
                    <a:pt x="850" y="99"/>
                  </a:lnTo>
                  <a:lnTo>
                    <a:pt x="841" y="83"/>
                  </a:lnTo>
                  <a:lnTo>
                    <a:pt x="829" y="69"/>
                  </a:lnTo>
                  <a:lnTo>
                    <a:pt x="815" y="55"/>
                  </a:lnTo>
                  <a:lnTo>
                    <a:pt x="798" y="44"/>
                  </a:lnTo>
                  <a:lnTo>
                    <a:pt x="780" y="34"/>
                  </a:lnTo>
                  <a:lnTo>
                    <a:pt x="758" y="25"/>
                  </a:lnTo>
                  <a:lnTo>
                    <a:pt x="732" y="17"/>
                  </a:lnTo>
                  <a:lnTo>
                    <a:pt x="705" y="12"/>
                  </a:lnTo>
                  <a:lnTo>
                    <a:pt x="674" y="7"/>
                  </a:lnTo>
                  <a:lnTo>
                    <a:pt x="641" y="3"/>
                  </a:lnTo>
                  <a:lnTo>
                    <a:pt x="564" y="0"/>
                  </a:lnTo>
                  <a:lnTo>
                    <a:pt x="459" y="0"/>
                  </a:lnTo>
                  <a:lnTo>
                    <a:pt x="388" y="1"/>
                  </a:lnTo>
                  <a:lnTo>
                    <a:pt x="328" y="7"/>
                  </a:lnTo>
                  <a:lnTo>
                    <a:pt x="300" y="11"/>
                  </a:lnTo>
                  <a:lnTo>
                    <a:pt x="276" y="17"/>
                  </a:lnTo>
                  <a:lnTo>
                    <a:pt x="253" y="26"/>
                  </a:lnTo>
                  <a:lnTo>
                    <a:pt x="231" y="37"/>
                  </a:lnTo>
                  <a:lnTo>
                    <a:pt x="211" y="50"/>
                  </a:lnTo>
                  <a:lnTo>
                    <a:pt x="191" y="67"/>
                  </a:lnTo>
                  <a:lnTo>
                    <a:pt x="173" y="86"/>
                  </a:lnTo>
                  <a:lnTo>
                    <a:pt x="157" y="109"/>
                  </a:lnTo>
                  <a:lnTo>
                    <a:pt x="140" y="137"/>
                  </a:lnTo>
                  <a:lnTo>
                    <a:pt x="125" y="168"/>
                  </a:lnTo>
                  <a:lnTo>
                    <a:pt x="110" y="203"/>
                  </a:lnTo>
                  <a:lnTo>
                    <a:pt x="95" y="243"/>
                  </a:lnTo>
                  <a:lnTo>
                    <a:pt x="28" y="457"/>
                  </a:lnTo>
                  <a:lnTo>
                    <a:pt x="13" y="512"/>
                  </a:lnTo>
                  <a:lnTo>
                    <a:pt x="5" y="561"/>
                  </a:lnTo>
                  <a:lnTo>
                    <a:pt x="0" y="604"/>
                  </a:lnTo>
                  <a:lnTo>
                    <a:pt x="2" y="642"/>
                  </a:lnTo>
                  <a:lnTo>
                    <a:pt x="8" y="675"/>
                  </a:lnTo>
                  <a:lnTo>
                    <a:pt x="18" y="703"/>
                  </a:lnTo>
                  <a:lnTo>
                    <a:pt x="32" y="728"/>
                  </a:lnTo>
                  <a:lnTo>
                    <a:pt x="49" y="748"/>
                  </a:lnTo>
                  <a:lnTo>
                    <a:pt x="68" y="764"/>
                  </a:lnTo>
                  <a:lnTo>
                    <a:pt x="91" y="778"/>
                  </a:lnTo>
                  <a:lnTo>
                    <a:pt x="115" y="787"/>
                  </a:lnTo>
                  <a:lnTo>
                    <a:pt x="141" y="796"/>
                  </a:lnTo>
                  <a:lnTo>
                    <a:pt x="168" y="801"/>
                  </a:lnTo>
                  <a:lnTo>
                    <a:pt x="196" y="804"/>
                  </a:lnTo>
                  <a:lnTo>
                    <a:pt x="253" y="806"/>
                  </a:lnTo>
                  <a:lnTo>
                    <a:pt x="296" y="806"/>
                  </a:lnTo>
                  <a:lnTo>
                    <a:pt x="308" y="791"/>
                  </a:lnTo>
                  <a:lnTo>
                    <a:pt x="322" y="776"/>
                  </a:lnTo>
                  <a:lnTo>
                    <a:pt x="355" y="749"/>
                  </a:lnTo>
                  <a:lnTo>
                    <a:pt x="394" y="723"/>
                  </a:lnTo>
                  <a:lnTo>
                    <a:pt x="438" y="703"/>
                  </a:lnTo>
                  <a:lnTo>
                    <a:pt x="486" y="686"/>
                  </a:lnTo>
                  <a:lnTo>
                    <a:pt x="539" y="674"/>
                  </a:lnTo>
                  <a:lnTo>
                    <a:pt x="596" y="666"/>
                  </a:lnTo>
                  <a:lnTo>
                    <a:pt x="654" y="663"/>
                  </a:lnTo>
                  <a:lnTo>
                    <a:pt x="680" y="664"/>
                  </a:lnTo>
                  <a:lnTo>
                    <a:pt x="680" y="664"/>
                  </a:lnTo>
                  <a:lnTo>
                    <a:pt x="645" y="666"/>
                  </a:lnTo>
                  <a:lnTo>
                    <a:pt x="611" y="671"/>
                  </a:lnTo>
                  <a:lnTo>
                    <a:pt x="578" y="679"/>
                  </a:lnTo>
                  <a:lnTo>
                    <a:pt x="546" y="688"/>
                  </a:lnTo>
                  <a:lnTo>
                    <a:pt x="516" y="700"/>
                  </a:lnTo>
                  <a:lnTo>
                    <a:pt x="487" y="713"/>
                  </a:lnTo>
                  <a:lnTo>
                    <a:pt x="460" y="728"/>
                  </a:lnTo>
                  <a:lnTo>
                    <a:pt x="436" y="744"/>
                  </a:lnTo>
                  <a:lnTo>
                    <a:pt x="413" y="762"/>
                  </a:lnTo>
                  <a:lnTo>
                    <a:pt x="392" y="782"/>
                  </a:lnTo>
                  <a:lnTo>
                    <a:pt x="374" y="802"/>
                  </a:lnTo>
                  <a:lnTo>
                    <a:pt x="358" y="824"/>
                  </a:lnTo>
                  <a:lnTo>
                    <a:pt x="345" y="848"/>
                  </a:lnTo>
                  <a:lnTo>
                    <a:pt x="335" y="871"/>
                  </a:lnTo>
                  <a:lnTo>
                    <a:pt x="328" y="896"/>
                  </a:lnTo>
                  <a:lnTo>
                    <a:pt x="324" y="922"/>
                  </a:lnTo>
                  <a:lnTo>
                    <a:pt x="344" y="897"/>
                  </a:lnTo>
                  <a:lnTo>
                    <a:pt x="368" y="875"/>
                  </a:lnTo>
                  <a:lnTo>
                    <a:pt x="397" y="855"/>
                  </a:lnTo>
                  <a:lnTo>
                    <a:pt x="429" y="838"/>
                  </a:lnTo>
                  <a:lnTo>
                    <a:pt x="464" y="825"/>
                  </a:lnTo>
                  <a:lnTo>
                    <a:pt x="502" y="815"/>
                  </a:lnTo>
                  <a:lnTo>
                    <a:pt x="542" y="808"/>
                  </a:lnTo>
                  <a:lnTo>
                    <a:pt x="582" y="806"/>
                  </a:lnTo>
                  <a:lnTo>
                    <a:pt x="911" y="806"/>
                  </a:lnTo>
                  <a:lnTo>
                    <a:pt x="955" y="663"/>
                  </a:lnTo>
                  <a:lnTo>
                    <a:pt x="720" y="663"/>
                  </a:lnTo>
                  <a:close/>
                  <a:moveTo>
                    <a:pt x="601" y="300"/>
                  </a:moveTo>
                  <a:lnTo>
                    <a:pt x="524" y="540"/>
                  </a:lnTo>
                  <a:lnTo>
                    <a:pt x="512" y="572"/>
                  </a:lnTo>
                  <a:lnTo>
                    <a:pt x="500" y="598"/>
                  </a:lnTo>
                  <a:lnTo>
                    <a:pt x="487" y="620"/>
                  </a:lnTo>
                  <a:lnTo>
                    <a:pt x="472" y="635"/>
                  </a:lnTo>
                  <a:lnTo>
                    <a:pt x="453" y="647"/>
                  </a:lnTo>
                  <a:lnTo>
                    <a:pt x="431" y="656"/>
                  </a:lnTo>
                  <a:lnTo>
                    <a:pt x="403" y="660"/>
                  </a:lnTo>
                  <a:lnTo>
                    <a:pt x="367" y="661"/>
                  </a:lnTo>
                  <a:lnTo>
                    <a:pt x="338" y="661"/>
                  </a:lnTo>
                  <a:lnTo>
                    <a:pt x="301" y="659"/>
                  </a:lnTo>
                  <a:lnTo>
                    <a:pt x="274" y="652"/>
                  </a:lnTo>
                  <a:lnTo>
                    <a:pt x="264" y="647"/>
                  </a:lnTo>
                  <a:lnTo>
                    <a:pt x="255" y="641"/>
                  </a:lnTo>
                  <a:lnTo>
                    <a:pt x="248" y="633"/>
                  </a:lnTo>
                  <a:lnTo>
                    <a:pt x="243" y="626"/>
                  </a:lnTo>
                  <a:lnTo>
                    <a:pt x="239" y="616"/>
                  </a:lnTo>
                  <a:lnTo>
                    <a:pt x="237" y="606"/>
                  </a:lnTo>
                  <a:lnTo>
                    <a:pt x="237" y="582"/>
                  </a:lnTo>
                  <a:lnTo>
                    <a:pt x="242" y="555"/>
                  </a:lnTo>
                  <a:lnTo>
                    <a:pt x="250" y="524"/>
                  </a:lnTo>
                  <a:lnTo>
                    <a:pt x="328" y="279"/>
                  </a:lnTo>
                  <a:lnTo>
                    <a:pt x="340" y="241"/>
                  </a:lnTo>
                  <a:lnTo>
                    <a:pt x="352" y="210"/>
                  </a:lnTo>
                  <a:lnTo>
                    <a:pt x="364" y="188"/>
                  </a:lnTo>
                  <a:lnTo>
                    <a:pt x="378" y="171"/>
                  </a:lnTo>
                  <a:lnTo>
                    <a:pt x="396" y="159"/>
                  </a:lnTo>
                  <a:lnTo>
                    <a:pt x="418" y="152"/>
                  </a:lnTo>
                  <a:lnTo>
                    <a:pt x="446" y="149"/>
                  </a:lnTo>
                  <a:lnTo>
                    <a:pt x="479" y="148"/>
                  </a:lnTo>
                  <a:lnTo>
                    <a:pt x="503" y="148"/>
                  </a:lnTo>
                  <a:lnTo>
                    <a:pt x="546" y="150"/>
                  </a:lnTo>
                  <a:lnTo>
                    <a:pt x="578" y="156"/>
                  </a:lnTo>
                  <a:lnTo>
                    <a:pt x="590" y="160"/>
                  </a:lnTo>
                  <a:lnTo>
                    <a:pt x="600" y="167"/>
                  </a:lnTo>
                  <a:lnTo>
                    <a:pt x="608" y="173"/>
                  </a:lnTo>
                  <a:lnTo>
                    <a:pt x="613" y="182"/>
                  </a:lnTo>
                  <a:lnTo>
                    <a:pt x="616" y="191"/>
                  </a:lnTo>
                  <a:lnTo>
                    <a:pt x="619" y="203"/>
                  </a:lnTo>
                  <a:lnTo>
                    <a:pt x="618" y="229"/>
                  </a:lnTo>
                  <a:lnTo>
                    <a:pt x="611" y="261"/>
                  </a:lnTo>
                  <a:lnTo>
                    <a:pt x="601" y="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250920" y="6075360"/>
              <a:ext cx="1326960" cy="2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815040" y="6273720"/>
              <a:ext cx="1154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etter answers</a:t>
              </a:r>
              <a:endParaRPr b="0" lang="en-US" sz="13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53" name="title%20bg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2734920" y="2209320"/>
            <a:ext cx="572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55" name="www.compaq" descr=""/>
          <p:cNvPicPr/>
          <p:nvPr/>
        </p:nvPicPr>
        <p:blipFill>
          <a:blip r:embed="rId4"/>
          <a:srcRect l="69504" t="87546" r="2953" b="6545"/>
          <a:stretch/>
        </p:blipFill>
        <p:spPr>
          <a:xfrm>
            <a:off x="5867280" y="5972040"/>
            <a:ext cx="2971800" cy="4762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857160" algn="ctr">
              <a:spcBef>
                <a:spcPts val="689"/>
              </a:spcBef>
              <a:buClr>
                <a:srgbClr val="83de62"/>
              </a:buClr>
              <a:buSzPct val="7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160ba1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ba1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160ba1"/>
              </a:solidFill>
              <a:latin typeface="Arial Narrow"/>
            </a:endParaRPr>
          </a:p>
          <a:p>
            <a:pPr lvl="4" marL="1542960" algn="ctr">
              <a:spcBef>
                <a:spcPts val="499"/>
              </a:spcBef>
              <a:buClr>
                <a:srgbClr val="160ba1"/>
              </a:buClr>
              <a:buFont typeface="Arial Narrow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ba1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160ba1"/>
              </a:solidFill>
              <a:latin typeface="Arial Narrow"/>
            </a:endParaRPr>
          </a:p>
          <a:p>
            <a:pPr lvl="5" marL="1542960">
              <a:spcBef>
                <a:spcPts val="499"/>
              </a:spcBef>
              <a:buClr>
                <a:srgbClr val="eaeaea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ba1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160ba1"/>
              </a:solidFill>
              <a:latin typeface="Arial Narrow"/>
            </a:endParaRPr>
          </a:p>
          <a:p>
            <a:pPr lvl="6" marL="1542960">
              <a:spcBef>
                <a:spcPts val="499"/>
              </a:spcBef>
              <a:buClr>
                <a:srgbClr val="eaeaea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ba1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160ba1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b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90920" y="22093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Sun Configurations on FC-AL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 flipV="1">
            <a:off x="4932360" y="2570040"/>
            <a:ext cx="0" cy="12146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0"/>
            <a:ext cx="651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3" name=""/>
          <p:cNvSpPr/>
          <p:nvPr/>
        </p:nvSpPr>
        <p:spPr>
          <a:xfrm>
            <a:off x="3630600" y="2379600"/>
            <a:ext cx="853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6526080" y="2303640"/>
            <a:ext cx="1067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                                  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3505320"/>
            <a:ext cx="1704960" cy="138888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Single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6" name=""/>
          <p:cNvSpPr/>
          <p:nvPr/>
        </p:nvSpPr>
        <p:spPr>
          <a:xfrm>
            <a:off x="4392720" y="2124000"/>
            <a:ext cx="1216080" cy="57636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b1b1b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7" name=""/>
          <p:cNvSpPr/>
          <p:nvPr/>
        </p:nvSpPr>
        <p:spPr>
          <a:xfrm>
            <a:off x="6019920" y="4648320"/>
            <a:ext cx="29955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ingle Controller,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 active por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"/>
          <p:cNvSpPr/>
          <p:nvPr/>
        </p:nvSpPr>
        <p:spPr>
          <a:xfrm>
            <a:off x="3554280" y="2379600"/>
            <a:ext cx="83844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5001840" y="268452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0" name=""/>
          <p:cNvSpPr/>
          <p:nvPr/>
        </p:nvSpPr>
        <p:spPr>
          <a:xfrm>
            <a:off x="5007600" y="3129120"/>
            <a:ext cx="1329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</a:rPr>
              <a:t>P1 Active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1" name=""/>
          <p:cNvSpPr/>
          <p:nvPr/>
        </p:nvSpPr>
        <p:spPr>
          <a:xfrm>
            <a:off x="2092320" y="1784520"/>
            <a:ext cx="1487520" cy="12855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4495680"/>
            <a:ext cx="373392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6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64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762120"/>
            <a:ext cx="5715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Single Server / Single Controller</a:t>
            </a:r>
            <a:r>
              <a:rPr b="1" lang="en-US" sz="32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7DCFC-F615-408B-918D-1106FBFBF8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498920" y="1143360"/>
            <a:ext cx="268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5" name=""/>
          <p:cNvSpPr/>
          <p:nvPr/>
        </p:nvSpPr>
        <p:spPr>
          <a:xfrm>
            <a:off x="1179360" y="1415880"/>
            <a:ext cx="7070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"/>
          <p:cNvSpPr/>
          <p:nvPr/>
        </p:nvSpPr>
        <p:spPr>
          <a:xfrm>
            <a:off x="6222960" y="4191120"/>
            <a:ext cx="29210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ual Redundan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ntroller,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ransparen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ailover Mod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7" name=""/>
          <p:cNvSpPr/>
          <p:nvPr/>
        </p:nvSpPr>
        <p:spPr>
          <a:xfrm>
            <a:off x="4835520" y="2851200"/>
            <a:ext cx="0" cy="143028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8" name=""/>
          <p:cNvSpPr/>
          <p:nvPr/>
        </p:nvSpPr>
        <p:spPr>
          <a:xfrm>
            <a:off x="3038400" y="2665440"/>
            <a:ext cx="133848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1368360" y="2163600"/>
            <a:ext cx="1830600" cy="147348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0" name=""/>
          <p:cNvSpPr/>
          <p:nvPr/>
        </p:nvSpPr>
        <p:spPr>
          <a:xfrm>
            <a:off x="5181480" y="2708280"/>
            <a:ext cx="0" cy="143028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1" name=""/>
          <p:cNvSpPr/>
          <p:nvPr/>
        </p:nvSpPr>
        <p:spPr>
          <a:xfrm>
            <a:off x="3882960" y="3809880"/>
            <a:ext cx="2286000" cy="15973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Dual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4137120" y="2379600"/>
            <a:ext cx="1714320" cy="614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3" name=""/>
          <p:cNvSpPr/>
          <p:nvPr/>
        </p:nvSpPr>
        <p:spPr>
          <a:xfrm>
            <a:off x="3311280" y="220824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4" name=""/>
          <p:cNvSpPr/>
          <p:nvPr/>
        </p:nvSpPr>
        <p:spPr>
          <a:xfrm>
            <a:off x="5250960" y="301608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0"/>
            <a:ext cx="682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609480"/>
            <a:ext cx="5361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Single Server / Dual Controller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"/>
          <p:cNvSpPr/>
          <p:nvPr/>
        </p:nvSpPr>
        <p:spPr>
          <a:xfrm>
            <a:off x="3231720" y="3279600"/>
            <a:ext cx="1555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Arial"/>
              </a:rPr>
              <a:t>P1 Activ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8" name=""/>
          <p:cNvSpPr/>
          <p:nvPr/>
        </p:nvSpPr>
        <p:spPr>
          <a:xfrm>
            <a:off x="3935160" y="299412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9" name=""/>
          <p:cNvSpPr/>
          <p:nvPr/>
        </p:nvSpPr>
        <p:spPr>
          <a:xfrm>
            <a:off x="5234760" y="3316320"/>
            <a:ext cx="18417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Arial"/>
              </a:rPr>
              <a:t>P1 Standby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203720"/>
            <a:ext cx="373392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6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64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29A86-1C90-4DCD-81B4-83DCF235C1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943600" y="4267080"/>
            <a:ext cx="3200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ingle Controller,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2 active port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No Failov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2" name=""/>
          <p:cNvSpPr/>
          <p:nvPr/>
        </p:nvSpPr>
        <p:spPr>
          <a:xfrm>
            <a:off x="5276880" y="2928960"/>
            <a:ext cx="0" cy="109836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3" name=""/>
          <p:cNvSpPr/>
          <p:nvPr/>
        </p:nvSpPr>
        <p:spPr>
          <a:xfrm>
            <a:off x="2881440" y="2830680"/>
            <a:ext cx="151596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475160" y="2913120"/>
            <a:ext cx="9360" cy="112716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5" name=""/>
          <p:cNvSpPr/>
          <p:nvPr/>
        </p:nvSpPr>
        <p:spPr>
          <a:xfrm>
            <a:off x="1146240" y="2075040"/>
            <a:ext cx="1855800" cy="15127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6" name=""/>
          <p:cNvSpPr/>
          <p:nvPr/>
        </p:nvSpPr>
        <p:spPr>
          <a:xfrm>
            <a:off x="3657600" y="3962520"/>
            <a:ext cx="2209680" cy="152388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Single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7" name=""/>
          <p:cNvSpPr/>
          <p:nvPr/>
        </p:nvSpPr>
        <p:spPr>
          <a:xfrm>
            <a:off x="4254480" y="2516040"/>
            <a:ext cx="1359000" cy="628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8" name=""/>
          <p:cNvSpPr/>
          <p:nvPr/>
        </p:nvSpPr>
        <p:spPr>
          <a:xfrm>
            <a:off x="3123000" y="3505320"/>
            <a:ext cx="1329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bf5e8"/>
                </a:solidFill>
                <a:latin typeface="Arial"/>
              </a:rPr>
              <a:t>P1 Active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9" name=""/>
          <p:cNvSpPr/>
          <p:nvPr/>
        </p:nvSpPr>
        <p:spPr>
          <a:xfrm>
            <a:off x="5409000" y="3505320"/>
            <a:ext cx="1329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</a:rPr>
              <a:t>P2 Active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0" name=""/>
          <p:cNvSpPr/>
          <p:nvPr/>
        </p:nvSpPr>
        <p:spPr>
          <a:xfrm>
            <a:off x="4457520" y="313848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1" name=""/>
          <p:cNvSpPr/>
          <p:nvPr/>
        </p:nvSpPr>
        <p:spPr>
          <a:xfrm>
            <a:off x="3239640" y="242712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0"/>
            <a:ext cx="6954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 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685800"/>
            <a:ext cx="624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Single Server / Single Controller Dual-Port (Active,Active)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8f2b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4" name=""/>
          <p:cNvSpPr/>
          <p:nvPr/>
        </p:nvSpPr>
        <p:spPr>
          <a:xfrm>
            <a:off x="1390680" y="2075040"/>
            <a:ext cx="145584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267080"/>
            <a:ext cx="3767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32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28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01655-D5D0-43CD-B1A9-21172AFD48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232880" y="1048320"/>
            <a:ext cx="268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1415880"/>
            <a:ext cx="7070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4267080"/>
            <a:ext cx="2895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ual Redundan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ntroller, 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ransparent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ailover Mod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9" name=""/>
          <p:cNvSpPr/>
          <p:nvPr/>
        </p:nvSpPr>
        <p:spPr>
          <a:xfrm>
            <a:off x="4218120" y="2936880"/>
            <a:ext cx="0" cy="143028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0" name=""/>
          <p:cNvSpPr/>
          <p:nvPr/>
        </p:nvSpPr>
        <p:spPr>
          <a:xfrm>
            <a:off x="2965320" y="2817720"/>
            <a:ext cx="133848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2124000"/>
            <a:ext cx="1830600" cy="14731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2" name=""/>
          <p:cNvSpPr/>
          <p:nvPr/>
        </p:nvSpPr>
        <p:spPr>
          <a:xfrm>
            <a:off x="4562640" y="2890800"/>
            <a:ext cx="0" cy="143028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3" name=""/>
          <p:cNvSpPr/>
          <p:nvPr/>
        </p:nvSpPr>
        <p:spPr>
          <a:xfrm>
            <a:off x="5295960" y="2941560"/>
            <a:ext cx="0" cy="143028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4" name=""/>
          <p:cNvSpPr/>
          <p:nvPr/>
        </p:nvSpPr>
        <p:spPr>
          <a:xfrm>
            <a:off x="5676840" y="2736720"/>
            <a:ext cx="0" cy="143064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962520"/>
            <a:ext cx="2286000" cy="15969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Dual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6" name=""/>
          <p:cNvSpPr/>
          <p:nvPr/>
        </p:nvSpPr>
        <p:spPr>
          <a:xfrm>
            <a:off x="4064040" y="2532240"/>
            <a:ext cx="1714320" cy="614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7" name=""/>
          <p:cNvSpPr/>
          <p:nvPr/>
        </p:nvSpPr>
        <p:spPr>
          <a:xfrm>
            <a:off x="3371040" y="3521160"/>
            <a:ext cx="860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P1 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8" name=""/>
          <p:cNvSpPr/>
          <p:nvPr/>
        </p:nvSpPr>
        <p:spPr>
          <a:xfrm>
            <a:off x="5261760" y="3519360"/>
            <a:ext cx="40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9" name=""/>
          <p:cNvSpPr/>
          <p:nvPr/>
        </p:nvSpPr>
        <p:spPr>
          <a:xfrm>
            <a:off x="5673600" y="3522600"/>
            <a:ext cx="92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  P2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0" name=""/>
          <p:cNvSpPr/>
          <p:nvPr/>
        </p:nvSpPr>
        <p:spPr>
          <a:xfrm>
            <a:off x="4205520" y="3517920"/>
            <a:ext cx="38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1" name=""/>
          <p:cNvSpPr/>
          <p:nvPr/>
        </p:nvSpPr>
        <p:spPr>
          <a:xfrm>
            <a:off x="3174480" y="244944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2" name=""/>
          <p:cNvSpPr/>
          <p:nvPr/>
        </p:nvSpPr>
        <p:spPr>
          <a:xfrm>
            <a:off x="4514400" y="317664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0"/>
            <a:ext cx="672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 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762120"/>
            <a:ext cx="699624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Single Server / Dual Controller Dual-Port (Active,Standby)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8f2b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5" name=""/>
          <p:cNvSpPr/>
          <p:nvPr/>
        </p:nvSpPr>
        <p:spPr>
          <a:xfrm>
            <a:off x="1506600" y="2131920"/>
            <a:ext cx="145404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343400"/>
            <a:ext cx="3767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32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28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72BC7-3DC5-42A5-9981-5656A72088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24080" y="5029200"/>
            <a:ext cx="60199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2 Dual Redundant Controller Pairs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Transparent Failover Mode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4311720" y="2595600"/>
            <a:ext cx="0" cy="109224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5410080" y="2595600"/>
            <a:ext cx="0" cy="109224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0" name=""/>
          <p:cNvSpPr/>
          <p:nvPr/>
        </p:nvSpPr>
        <p:spPr>
          <a:xfrm>
            <a:off x="3193920" y="2523960"/>
            <a:ext cx="104796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1" name=""/>
          <p:cNvSpPr/>
          <p:nvPr/>
        </p:nvSpPr>
        <p:spPr>
          <a:xfrm>
            <a:off x="5076720" y="2778120"/>
            <a:ext cx="0" cy="79848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2" name=""/>
          <p:cNvSpPr/>
          <p:nvPr/>
        </p:nvSpPr>
        <p:spPr>
          <a:xfrm>
            <a:off x="4660920" y="2778120"/>
            <a:ext cx="0" cy="79848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3" name=""/>
          <p:cNvSpPr/>
          <p:nvPr/>
        </p:nvSpPr>
        <p:spPr>
          <a:xfrm>
            <a:off x="6780240" y="2752560"/>
            <a:ext cx="0" cy="90972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7953480" y="2244600"/>
            <a:ext cx="0" cy="145584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5" name=""/>
          <p:cNvSpPr/>
          <p:nvPr/>
        </p:nvSpPr>
        <p:spPr>
          <a:xfrm>
            <a:off x="7180200" y="2608200"/>
            <a:ext cx="0" cy="98100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6" name=""/>
          <p:cNvSpPr/>
          <p:nvPr/>
        </p:nvSpPr>
        <p:spPr>
          <a:xfrm>
            <a:off x="5222880" y="2766960"/>
            <a:ext cx="159552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708520" y="2582640"/>
            <a:ext cx="1497240" cy="1260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8" name=""/>
          <p:cNvSpPr/>
          <p:nvPr/>
        </p:nvSpPr>
        <p:spPr>
          <a:xfrm>
            <a:off x="5734080" y="2414520"/>
            <a:ext cx="192096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121360" y="2219040"/>
            <a:ext cx="2806560" cy="1260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0" name=""/>
          <p:cNvSpPr/>
          <p:nvPr/>
        </p:nvSpPr>
        <p:spPr>
          <a:xfrm>
            <a:off x="7616880" y="2414520"/>
            <a:ext cx="0" cy="127332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1" name=""/>
          <p:cNvSpPr/>
          <p:nvPr/>
        </p:nvSpPr>
        <p:spPr>
          <a:xfrm>
            <a:off x="1515960" y="1868400"/>
            <a:ext cx="1677960" cy="131148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2" name=""/>
          <p:cNvSpPr/>
          <p:nvPr/>
        </p:nvSpPr>
        <p:spPr>
          <a:xfrm>
            <a:off x="4137120" y="2158920"/>
            <a:ext cx="1741320" cy="717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3" name=""/>
          <p:cNvSpPr/>
          <p:nvPr/>
        </p:nvSpPr>
        <p:spPr>
          <a:xfrm>
            <a:off x="3787920" y="3505320"/>
            <a:ext cx="2095200" cy="14205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Dual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3505320"/>
            <a:ext cx="2097000" cy="14205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Dual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5" name=""/>
          <p:cNvSpPr/>
          <p:nvPr/>
        </p:nvSpPr>
        <p:spPr>
          <a:xfrm>
            <a:off x="3463200" y="3100320"/>
            <a:ext cx="860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P1 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6" name=""/>
          <p:cNvSpPr/>
          <p:nvPr/>
        </p:nvSpPr>
        <p:spPr>
          <a:xfrm>
            <a:off x="4685400" y="3097080"/>
            <a:ext cx="40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7" name=""/>
          <p:cNvSpPr/>
          <p:nvPr/>
        </p:nvSpPr>
        <p:spPr>
          <a:xfrm>
            <a:off x="6049800" y="3105000"/>
            <a:ext cx="775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P1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8" name=""/>
          <p:cNvSpPr/>
          <p:nvPr/>
        </p:nvSpPr>
        <p:spPr>
          <a:xfrm>
            <a:off x="7217640" y="3100320"/>
            <a:ext cx="40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9" name=""/>
          <p:cNvSpPr/>
          <p:nvPr/>
        </p:nvSpPr>
        <p:spPr>
          <a:xfrm>
            <a:off x="4308840" y="3102120"/>
            <a:ext cx="38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0" name=""/>
          <p:cNvSpPr/>
          <p:nvPr/>
        </p:nvSpPr>
        <p:spPr>
          <a:xfrm>
            <a:off x="5046840" y="3098880"/>
            <a:ext cx="92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  P2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1" name=""/>
          <p:cNvSpPr/>
          <p:nvPr/>
        </p:nvSpPr>
        <p:spPr>
          <a:xfrm>
            <a:off x="6799680" y="3094200"/>
            <a:ext cx="38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2" name=""/>
          <p:cNvSpPr/>
          <p:nvPr/>
        </p:nvSpPr>
        <p:spPr>
          <a:xfrm>
            <a:off x="7580160" y="3102120"/>
            <a:ext cx="92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  P2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3" name=""/>
          <p:cNvSpPr/>
          <p:nvPr/>
        </p:nvSpPr>
        <p:spPr>
          <a:xfrm>
            <a:off x="3293640" y="213048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4" name=""/>
          <p:cNvSpPr/>
          <p:nvPr/>
        </p:nvSpPr>
        <p:spPr>
          <a:xfrm>
            <a:off x="5546520" y="277020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0"/>
            <a:ext cx="657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 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6" name=""/>
          <p:cNvSpPr/>
          <p:nvPr/>
        </p:nvSpPr>
        <p:spPr>
          <a:xfrm>
            <a:off x="1752480" y="762120"/>
            <a:ext cx="6767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Single Server / (2) Dual Controllers /Dual-Port (Active,Standby)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8f2b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7" name=""/>
          <p:cNvSpPr/>
          <p:nvPr/>
        </p:nvSpPr>
        <p:spPr>
          <a:xfrm>
            <a:off x="1623960" y="1836720"/>
            <a:ext cx="145584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657600"/>
            <a:ext cx="3767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64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256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82C59-97A9-4557-B667-4E02B32ED8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5862600" y="2284560"/>
            <a:ext cx="1062000" cy="936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0" name=""/>
          <p:cNvSpPr/>
          <p:nvPr/>
        </p:nvSpPr>
        <p:spPr>
          <a:xfrm>
            <a:off x="4281480" y="2509920"/>
            <a:ext cx="3240" cy="95076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127240" y="2247840"/>
            <a:ext cx="1463760" cy="792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2" name=""/>
          <p:cNvSpPr/>
          <p:nvPr/>
        </p:nvSpPr>
        <p:spPr>
          <a:xfrm>
            <a:off x="6788160" y="1647720"/>
            <a:ext cx="1581120" cy="14097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5203800" y="2509920"/>
            <a:ext cx="3240" cy="95076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4" name=""/>
          <p:cNvSpPr/>
          <p:nvPr/>
        </p:nvSpPr>
        <p:spPr>
          <a:xfrm>
            <a:off x="1225440" y="1633680"/>
            <a:ext cx="1530360" cy="1371600"/>
          </a:xfrm>
          <a:prstGeom prst="rect">
            <a:avLst/>
          </a:prstGeom>
          <a:gradFill rotWithShape="0">
            <a:gsLst>
              <a:gs pos="0">
                <a:srgbClr val="9a9a9a"/>
              </a:gs>
              <a:gs pos="50000">
                <a:srgbClr val="eaeaea"/>
              </a:gs>
              <a:gs pos="100000">
                <a:srgbClr val="9a9a9a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3429000"/>
            <a:ext cx="1712880" cy="13809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C Single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027160"/>
            <a:ext cx="1185840" cy="514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7" name=""/>
          <p:cNvSpPr/>
          <p:nvPr/>
        </p:nvSpPr>
        <p:spPr>
          <a:xfrm>
            <a:off x="4808520" y="2027160"/>
            <a:ext cx="1185840" cy="514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8" name=""/>
          <p:cNvSpPr/>
          <p:nvPr/>
        </p:nvSpPr>
        <p:spPr>
          <a:xfrm>
            <a:off x="5791320" y="4191120"/>
            <a:ext cx="3200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ingle Controller, 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2 active port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No Failov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9" name=""/>
          <p:cNvSpPr/>
          <p:nvPr/>
        </p:nvSpPr>
        <p:spPr>
          <a:xfrm>
            <a:off x="2749320" y="178596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0" name=""/>
          <p:cNvSpPr/>
          <p:nvPr/>
        </p:nvSpPr>
        <p:spPr>
          <a:xfrm>
            <a:off x="3408120" y="255420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5968800" y="191448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2" name=""/>
          <p:cNvSpPr/>
          <p:nvPr/>
        </p:nvSpPr>
        <p:spPr>
          <a:xfrm>
            <a:off x="5230440" y="258444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3" name=""/>
          <p:cNvSpPr/>
          <p:nvPr/>
        </p:nvSpPr>
        <p:spPr>
          <a:xfrm>
            <a:off x="2747520" y="2995560"/>
            <a:ext cx="1555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Arial"/>
              </a:rPr>
              <a:t>P1 Activ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4" name=""/>
          <p:cNvSpPr/>
          <p:nvPr/>
        </p:nvSpPr>
        <p:spPr>
          <a:xfrm>
            <a:off x="5190480" y="3014640"/>
            <a:ext cx="1555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Arial"/>
              </a:rPr>
              <a:t>P2 Activ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0"/>
            <a:ext cx="6748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6" name=""/>
          <p:cNvSpPr/>
          <p:nvPr/>
        </p:nvSpPr>
        <p:spPr>
          <a:xfrm>
            <a:off x="1828800" y="609480"/>
            <a:ext cx="50594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Dual Servers / Single Controller</a:t>
            </a:r>
            <a:r>
              <a:rPr b="1" lang="en-US" sz="31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114800"/>
            <a:ext cx="3767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32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28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B1996-DF12-40D4-9728-E46C1CAF0A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824040" y="1523880"/>
            <a:ext cx="7565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9" name=""/>
          <p:cNvSpPr/>
          <p:nvPr/>
        </p:nvSpPr>
        <p:spPr>
          <a:xfrm>
            <a:off x="5789520" y="2049480"/>
            <a:ext cx="882720" cy="324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0" name=""/>
          <p:cNvSpPr/>
          <p:nvPr/>
        </p:nvSpPr>
        <p:spPr>
          <a:xfrm>
            <a:off x="3778200" y="2327400"/>
            <a:ext cx="3240" cy="88560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1" name=""/>
          <p:cNvSpPr/>
          <p:nvPr/>
        </p:nvSpPr>
        <p:spPr>
          <a:xfrm>
            <a:off x="1668600" y="2049480"/>
            <a:ext cx="1766880" cy="324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2" name=""/>
          <p:cNvSpPr/>
          <p:nvPr/>
        </p:nvSpPr>
        <p:spPr>
          <a:xfrm>
            <a:off x="6659640" y="1547640"/>
            <a:ext cx="1414440" cy="1536840"/>
          </a:xfrm>
          <a:prstGeom prst="rect">
            <a:avLst/>
          </a:prstGeom>
          <a:gradFill rotWithShape="0">
            <a:gsLst>
              <a:gs pos="0">
                <a:srgbClr val="9e9e9e"/>
              </a:gs>
              <a:gs pos="50000">
                <a:srgbClr val="eaeaea"/>
              </a:gs>
              <a:gs pos="100000">
                <a:srgbClr val="9e9e9e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4886280" y="2203560"/>
            <a:ext cx="7920" cy="99684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4" name=""/>
          <p:cNvSpPr/>
          <p:nvPr/>
        </p:nvSpPr>
        <p:spPr>
          <a:xfrm>
            <a:off x="965160" y="1494000"/>
            <a:ext cx="1413000" cy="15732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5" name=""/>
          <p:cNvSpPr/>
          <p:nvPr/>
        </p:nvSpPr>
        <p:spPr>
          <a:xfrm>
            <a:off x="5151600" y="2327400"/>
            <a:ext cx="2880" cy="106200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6" name=""/>
          <p:cNvSpPr/>
          <p:nvPr/>
        </p:nvSpPr>
        <p:spPr>
          <a:xfrm>
            <a:off x="4033800" y="2189160"/>
            <a:ext cx="3240" cy="123840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581280" y="3200400"/>
            <a:ext cx="1766880" cy="13827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Dual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8" name=""/>
          <p:cNvSpPr/>
          <p:nvPr/>
        </p:nvSpPr>
        <p:spPr>
          <a:xfrm>
            <a:off x="4611600" y="1784520"/>
            <a:ext cx="1325520" cy="529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3139920" y="1784520"/>
            <a:ext cx="1325880" cy="529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dcdc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0" name=""/>
          <p:cNvSpPr/>
          <p:nvPr/>
        </p:nvSpPr>
        <p:spPr>
          <a:xfrm>
            <a:off x="5859000" y="162072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1" name=""/>
          <p:cNvSpPr/>
          <p:nvPr/>
        </p:nvSpPr>
        <p:spPr>
          <a:xfrm>
            <a:off x="2458800" y="159876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2" name=""/>
          <p:cNvSpPr/>
          <p:nvPr/>
        </p:nvSpPr>
        <p:spPr>
          <a:xfrm>
            <a:off x="4057200" y="238752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3" name=""/>
          <p:cNvSpPr/>
          <p:nvPr/>
        </p:nvSpPr>
        <p:spPr>
          <a:xfrm>
            <a:off x="2363760" y="2546280"/>
            <a:ext cx="1428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f4ea"/>
                </a:solidFill>
                <a:latin typeface="Arial"/>
              </a:rPr>
              <a:t>P1 Active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f4ea"/>
                </a:solidFill>
                <a:latin typeface="Arial"/>
              </a:rPr>
              <a:t>P1 Standby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4" name=""/>
          <p:cNvSpPr/>
          <p:nvPr/>
        </p:nvSpPr>
        <p:spPr>
          <a:xfrm>
            <a:off x="5149800" y="2587680"/>
            <a:ext cx="1428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f4ea"/>
                </a:solidFill>
                <a:latin typeface="Arial"/>
              </a:rPr>
              <a:t>P2 Standby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f4ea"/>
                </a:solidFill>
                <a:latin typeface="Arial"/>
              </a:rPr>
              <a:t>P2 Active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0"/>
            <a:ext cx="659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6" name=""/>
          <p:cNvSpPr/>
          <p:nvPr/>
        </p:nvSpPr>
        <p:spPr>
          <a:xfrm>
            <a:off x="1828800" y="685800"/>
            <a:ext cx="4738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Dual Servers / Dual Controllers</a:t>
            </a:r>
            <a:r>
              <a:rPr b="1" lang="en-US" sz="3100" spc="-1" strike="noStrike">
                <a:solidFill>
                  <a:srgbClr val="ff8f2b"/>
                </a:solidFill>
                <a:latin typeface="Arial"/>
              </a:rPr>
              <a:t>  </a:t>
            </a:r>
            <a:endParaRPr b="0" lang="en-US" sz="31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7" name=""/>
          <p:cNvSpPr/>
          <p:nvPr/>
        </p:nvSpPr>
        <p:spPr>
          <a:xfrm>
            <a:off x="152280" y="4648320"/>
            <a:ext cx="376740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32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28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8" name=""/>
          <p:cNvSpPr/>
          <p:nvPr/>
        </p:nvSpPr>
        <p:spPr>
          <a:xfrm>
            <a:off x="5715000" y="4343400"/>
            <a:ext cx="3276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ual Redundan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ntroller, 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ransparent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ailover Mod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37CC8-5C88-4DA8-B544-5F441AA5AB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www.compaq" descr=""/>
          <p:cNvPicPr/>
          <p:nvPr/>
        </p:nvPicPr>
        <p:blipFill>
          <a:blip r:embed="rId2"/>
          <a:srcRect l="69504" t="87546" r="2953" b="6545"/>
          <a:stretch/>
        </p:blipFill>
        <p:spPr>
          <a:xfrm>
            <a:off x="5867280" y="5972040"/>
            <a:ext cx="2971800" cy="476280"/>
          </a:xfrm>
          <a:prstGeom prst="rect">
            <a:avLst/>
          </a:prstGeom>
          <a:ln w="0">
            <a:noFill/>
          </a:ln>
        </p:spPr>
      </p:pic>
      <p:pic>
        <p:nvPicPr>
          <p:cNvPr id="240" name="compaq%20better%20answers" descr=""/>
          <p:cNvPicPr/>
          <p:nvPr/>
        </p:nvPicPr>
        <p:blipFill>
          <a:blip r:embed="rId3"/>
          <a:stretch/>
        </p:blipFill>
        <p:spPr>
          <a:xfrm>
            <a:off x="3251160" y="3124080"/>
            <a:ext cx="2692440" cy="65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CB2FB-69FA-4010-8E11-D498E73E81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6T19:52:29Z</dcterms:created>
  <dc:creator>Jay C. Redford</dc:creator>
  <dc:description/>
  <dc:language>en-US</dc:language>
  <cp:lastModifiedBy>Jay C. Redford</cp:lastModifiedBy>
  <cp:lastPrinted>1998-12-10T22:46:21Z</cp:lastPrinted>
  <dcterms:modified xsi:type="dcterms:W3CDTF">1999-06-06T20:43:56Z</dcterms:modified>
  <cp:revision>1</cp:revision>
  <dc:subject/>
  <dc:title>Sun Configurations on FC-AL</dc:title>
</cp:coreProperties>
</file>