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94863" cy="6858000"/>
  <p:notesSz cx="7034213" cy="9104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3C24-D1D2-4D83-91FE-F80A107E1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7200" y="413064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47D7-A075-45D0-8A0A-0489198B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892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152F-DB8A-4EBF-801F-629210C8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324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892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720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324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892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5E3B-19E9-48E3-AC03-33FBE526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038F-706F-417A-B65C-3B269275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C4E9-3D10-45BD-9049-161CC1BC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2343-C93C-4007-9587-924FD434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3B59-AA12-4E6E-A46E-189FD2FA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7200" y="609120"/>
            <a:ext cx="8238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F2A4-D431-491A-9643-7F2F3049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F9B2-E6A3-4E0F-BE8D-9ECC2607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892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4FB8-1F27-4F29-B42E-8E884C95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B6F6-3A02-43A3-9373-CCA79F62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6840" y="6248520"/>
            <a:ext cx="201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1164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46560" y="6248520"/>
            <a:ext cx="201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A06C-733E-4800-8B08-970152442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810560" y="5591160"/>
            <a:ext cx="20286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ower Cord: IEC320-C13 to NEMA 5-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03541-xxx Power Cords 13-20 Amp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001 USA/Japan  -011 Aus/N.Zeal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021 C.Europe     -031 UK/Ireland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511 Switzerland -481 Denmar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461 Italy             -AR1 India/S.Africa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BT1  Isra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7440" y="4441680"/>
            <a:ext cx="19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28520" y="0"/>
            <a:ext cx="4183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8000/EMA12000 CI Product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78040" y="2562120"/>
            <a:ext cx="24361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orage controllers, cache, batteri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04305-B21   HSJ80 RAID Array Controller w/ 512MB Cac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35823-B21   Single external cache batter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8124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8124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3809880"/>
            <a:ext cx="1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778040" y="380880"/>
            <a:ext cx="7920" cy="647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2240" y="2876400"/>
            <a:ext cx="0" cy="398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846920" y="5638680"/>
            <a:ext cx="18464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76240" y="2946240"/>
            <a:ext cx="247032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upported Hard Dri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649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2 SCSI 7200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28939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2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2671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38144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2 SCSI 7200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418-B22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2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2673-B22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96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6.4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94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72.8GB Ultra3 SCSI 10K RPM 1.6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649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6”Drive Extenders (Pack of 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47440" y="4160880"/>
            <a:ext cx="2856960" cy="1919160"/>
            <a:chOff x="1747440" y="4160880"/>
            <a:chExt cx="2856960" cy="1919160"/>
          </a:xfrm>
        </p:grpSpPr>
        <p:sp>
          <p:nvSpPr>
            <p:cNvPr id="53" name=""/>
            <p:cNvSpPr/>
            <p:nvPr/>
          </p:nvSpPr>
          <p:spPr>
            <a:xfrm>
              <a:off x="2329920" y="4160880"/>
              <a:ext cx="227448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ompaq 9142 Rack, options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63-B21   9142 42U Cab (opal) No PDU- Flat Pall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63-B22   9142 42U Cab (opal) No PDU- Shock Pall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63-B23   9142 42U Cab (opal) No PDU- Crate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70-B21 Side Pan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73-B21 Rack Stabiliz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69-B21 Multi-Bay Ki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77/678-B21 Fan Kit 110/220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69940-B21 Blank Panel Kit (Qty 4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95363-001 PDU DOM Low - Zero 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 ft L5-30P Pdu supports 6 p/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95363-002 PDU DOM 16 Amp - Zero 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6-20P  Pdu supports 6 p/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95363-003 PDU DOM 32 Amp - Zero 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 ft L6-30P  Pdu supports 6 p/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Order 9142  with 1 or 2 PD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Not all options show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1747440" y="4240080"/>
              <a:ext cx="674280" cy="1474560"/>
              <a:chOff x="1747440" y="4240080"/>
              <a:chExt cx="674280" cy="1474560"/>
            </a:xfrm>
          </p:grpSpPr>
          <p:grpSp>
            <p:nvGrpSpPr>
              <p:cNvPr id="55" name=""/>
              <p:cNvGrpSpPr/>
              <p:nvPr/>
            </p:nvGrpSpPr>
            <p:grpSpPr>
              <a:xfrm>
                <a:off x="1801800" y="4240080"/>
                <a:ext cx="574560" cy="1474560"/>
                <a:chOff x="1801800" y="4240080"/>
                <a:chExt cx="574560" cy="147456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1801800" y="4240080"/>
                  <a:ext cx="574560" cy="14079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11448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11448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801800" y="5660640"/>
                  <a:ext cx="149760" cy="5256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2226600" y="5662440"/>
                  <a:ext cx="149400" cy="5220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" name=""/>
              <p:cNvSpPr/>
              <p:nvPr/>
            </p:nvSpPr>
            <p:spPr>
              <a:xfrm>
                <a:off x="1761120" y="4316400"/>
                <a:ext cx="660600" cy="7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Compa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914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Rac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Retm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OPAL onl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747440" y="5421240"/>
                <a:ext cx="631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42U Rac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01800" y="5110200"/>
                <a:ext cx="5605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No CT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" name=""/>
          <p:cNvSpPr/>
          <p:nvPr/>
        </p:nvSpPr>
        <p:spPr>
          <a:xfrm>
            <a:off x="7763040" y="6399360"/>
            <a:ext cx="20192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ower Cord: IEC320-C13 to IEC320-C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35S-02    2.5M IEC cable, black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30B-02    2.5M IEC cable, gra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17360" y="2009880"/>
            <a:ext cx="18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87840" y="2863800"/>
            <a:ext cx="26668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nclosure  op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65-B21   180 Watt Power Supply for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9826-B21   4214R Redundant power supp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9829-B21   4214R Dual Bus I/O Modul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91280" y="81000"/>
            <a:ext cx="1186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17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85960" y="41911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795320" y="2501640"/>
            <a:ext cx="27482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65160" y="5587920"/>
            <a:ext cx="210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47520" y="3049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33840" y="2514600"/>
            <a:ext cx="0" cy="16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38520" y="3416400"/>
            <a:ext cx="329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12240" y="144360"/>
            <a:ext cx="186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el 2200 (M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oller Enclosure - 4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511200"/>
            <a:ext cx="1765440" cy="2034000"/>
            <a:chOff x="0" y="511200"/>
            <a:chExt cx="1765440" cy="2034000"/>
          </a:xfrm>
        </p:grpSpPr>
        <p:sp>
          <p:nvSpPr>
            <p:cNvPr id="74" name=""/>
            <p:cNvSpPr/>
            <p:nvPr/>
          </p:nvSpPr>
          <p:spPr>
            <a:xfrm>
              <a:off x="576720" y="511200"/>
              <a:ext cx="43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ro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7240" y="1241280"/>
              <a:ext cx="415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Bac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0960" y="199080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6000" y="1963800"/>
              <a:ext cx="144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35820-B21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cludes:</a:t>
              </a: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(2) 180W Power Supplies, (3)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ans, (6) Ultra SCSI I/O Modules, EMU,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(2) IEC C13-C14 Power Cords, RETMA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mounting ki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2533680"/>
              <a:ext cx="176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0" y="2530440"/>
            <a:ext cx="177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odel 42xx /43xx Device Enclosure - 3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195720"/>
            <a:ext cx="17589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03381-001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4214R (Ultra 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90209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14R (Ultra 3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Single Bus, 14 Bay Device Enclosure, RETMA mounting kit, (2) Blower, (1) Power Supply, (1) IEC-C13 to            NEMA 5-15P Power Cord, (1) 3.7M VHD - VHD SCSI C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38151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254R (Ultra 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90211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- 4354R (Ultra 3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Dual Bus, 14 Bay Device Enclosure, RETMA mounting kit, (2) Blowers, (2) Power Supplies, (2) IEC-C13 to NEMA 5-15P Power Cords , (2) IEC-C13 to IEC-C14 Power Cords, (2) 3.7M VHD - VHD SCSI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87840" y="3419640"/>
            <a:ext cx="31132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CSI Cables - VHDCI to VHDCI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for CT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8256-B21  1Meter, 168257-B21  2M, 189505-B21 3M, 400983-005  5M, 400985-010 10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I Cab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CIA-10  10M, BNCIA-20  20M, BNCIA-45  45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ar Coupl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C008-AC  8 ports, dual CI path w/ Cabin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C008-AD  8 ports, dual CI path. Upgrades SC008-A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o 16 CI ports - installs inside SC008-A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32400" y="4191120"/>
            <a:ext cx="0" cy="265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33480" y="6008760"/>
            <a:ext cx="292392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ther 9000 Series Racks Suppor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4-B21  9136 -36U Cab (opal) No PDU- Flat Palle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4-B22  9136 -36U Cab (opal) No PDU- Shock Palle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4-B23  9136 -36U Cab (opal) No PDU- Crated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5-B21  9122 -22U Cab (opal) No PDU- Flat Palle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5-B22  9122 -22U Cab (opal) No PDU- Shock Pall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5-B23  9122 -22U Cab (opal) No PDU- Crated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513680" y="5091120"/>
            <a:ext cx="3411000" cy="1600920"/>
            <a:chOff x="4513680" y="5091120"/>
            <a:chExt cx="3411000" cy="1600920"/>
          </a:xfrm>
        </p:grpSpPr>
        <p:sp>
          <p:nvSpPr>
            <p:cNvPr id="85" name=""/>
            <p:cNvSpPr/>
            <p:nvPr/>
          </p:nvSpPr>
          <p:spPr>
            <a:xfrm>
              <a:off x="5073480" y="5091120"/>
              <a:ext cx="2851200" cy="16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Modular Storage Cabinet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1-B21  42U  (opal) 60Hz w/ (26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2-B22  42U  (opal) 50Hz w/ (26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3-B21  36U  (opal) 60Hz w/ (22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4-B22  36U  (opal) 50Hz w/ (22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5-B21  22U  (opal) 60Hz w/ (12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6-B22  22U  (opal) 50Hz w/ (12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7-B21  41U  (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blue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) 60Hz w/ (26) IEC320-C13 to C14 Power Cords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8-B22  41U  (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blue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) 50Hz w/ (26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All Modular Storage Cabs include: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Front &amp; back doors, Side panels, (2) 2U 24Amp PDUs each with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15’ L6-30P input Power Cord, (16) IEC320-C13 receptac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4513680" y="5163840"/>
              <a:ext cx="694080" cy="1289520"/>
              <a:chOff x="4513680" y="5163840"/>
              <a:chExt cx="694080" cy="128952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4579920" y="5208120"/>
                <a:ext cx="555480" cy="1245240"/>
                <a:chOff x="4579920" y="5208120"/>
                <a:chExt cx="555480" cy="12452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4579920" y="5208120"/>
                  <a:ext cx="555480" cy="11890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11448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11448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579920" y="6408000"/>
                  <a:ext cx="144720" cy="4428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990680" y="6409440"/>
                  <a:ext cx="144720" cy="4392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" name=""/>
              <p:cNvSpPr/>
              <p:nvPr/>
            </p:nvSpPr>
            <p:spPr>
              <a:xfrm>
                <a:off x="4513680" y="5163840"/>
                <a:ext cx="694080" cy="120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Modular</a:t>
                </a:r>
                <a:br>
                  <a:rPr sz="800"/>
                </a:b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Storag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Cabine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(22U, 36U,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42U are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Pre-Configure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9000 Serie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Racks)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(41U is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Pre-configure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ESA12000 Cab)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TO avail.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" name=""/>
          <p:cNvSpPr/>
          <p:nvPr/>
        </p:nvSpPr>
        <p:spPr>
          <a:xfrm>
            <a:off x="8582760" y="1830240"/>
            <a:ext cx="95940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3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41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3) 425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NO Controllers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che or D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47840" y="82440"/>
            <a:ext cx="9928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MA12000 Bl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723160" y="295200"/>
            <a:ext cx="633240" cy="1550880"/>
            <a:chOff x="8723160" y="295200"/>
            <a:chExt cx="633240" cy="1550880"/>
          </a:xfrm>
        </p:grpSpPr>
        <p:sp>
          <p:nvSpPr>
            <p:cNvPr id="95" name=""/>
            <p:cNvSpPr/>
            <p:nvPr/>
          </p:nvSpPr>
          <p:spPr>
            <a:xfrm>
              <a:off x="8723160" y="295200"/>
              <a:ext cx="633240" cy="14810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723160" y="1788840"/>
              <a:ext cx="164880" cy="558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191520" y="1790640"/>
              <a:ext cx="164880" cy="5544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8697960" y="2844720"/>
            <a:ext cx="1044000" cy="2820960"/>
            <a:chOff x="8697960" y="2844720"/>
            <a:chExt cx="1044000" cy="2820960"/>
          </a:xfrm>
        </p:grpSpPr>
        <p:grpSp>
          <p:nvGrpSpPr>
            <p:cNvPr id="99" name=""/>
            <p:cNvGrpSpPr/>
            <p:nvPr/>
          </p:nvGrpSpPr>
          <p:grpSpPr>
            <a:xfrm>
              <a:off x="8861400" y="3057480"/>
              <a:ext cx="633240" cy="1550880"/>
              <a:chOff x="8861400" y="3057480"/>
              <a:chExt cx="633240" cy="1550880"/>
            </a:xfrm>
          </p:grpSpPr>
          <p:sp>
            <p:nvSpPr>
              <p:cNvPr id="100" name=""/>
              <p:cNvSpPr/>
              <p:nvPr/>
            </p:nvSpPr>
            <p:spPr>
              <a:xfrm>
                <a:off x="8861400" y="3057480"/>
                <a:ext cx="633240" cy="14810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61400" y="4551120"/>
                <a:ext cx="164880" cy="558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9329760" y="4552920"/>
                <a:ext cx="164880" cy="5544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8697960" y="2844720"/>
              <a:ext cx="968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MA12000 D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718840" y="4599000"/>
              <a:ext cx="10231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5990-B21/60H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 42U Modula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Storage Cab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  M2200 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9)   4254 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8) SCSI VHD-VH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ables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NO Controllers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Cache or Disk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546440" y="2857680"/>
            <a:ext cx="514692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66960" y="700200"/>
            <a:ext cx="4511520" cy="17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Platform ki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required per cluster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adapter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per host connection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SJ80 Solution Kit: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OpenVMS, V8.5A, 203694-001;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OSs Supported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Adapter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A softwar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AX OpenVMS 6.2               CIXCD                        VMSClus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AX OpenVMS 7.1                   “                                        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AX OpenVMS 7.2                   “                                        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pha OpenVMS 6.2-1H3      CIPCA                         VMSCluste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pha OpenVMS 7.1H1             “                                        “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pha OpenVMS 7.2                  “                                        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pha OpenVMS 7.2-1              “                                         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SJ80 Storage Controller Softwar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(1 per control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3693-B21  ACS V8.5J-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45000" y="5022720"/>
            <a:ext cx="329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0" y="4848120"/>
            <a:ext cx="17762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438960" y="466560"/>
            <a:ext cx="0" cy="240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649280" y="142920"/>
            <a:ext cx="1003320" cy="2762280"/>
            <a:chOff x="7649280" y="142920"/>
            <a:chExt cx="1003320" cy="2762280"/>
          </a:xfrm>
        </p:grpSpPr>
        <p:sp>
          <p:nvSpPr>
            <p:cNvPr id="111" name=""/>
            <p:cNvSpPr/>
            <p:nvPr/>
          </p:nvSpPr>
          <p:spPr>
            <a:xfrm>
              <a:off x="7665840" y="142920"/>
              <a:ext cx="9500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MA12000 S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49280" y="1731960"/>
              <a:ext cx="100332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5991-B21/60H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36U Modula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Storage Cab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 M2200 Enclosu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  4214 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SCSI VHD-VH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ab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Controllers, Batteri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and Disks ordered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eparatel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7765920" y="336600"/>
            <a:ext cx="633240" cy="1417320"/>
            <a:chOff x="7765920" y="336600"/>
            <a:chExt cx="633240" cy="1417320"/>
          </a:xfrm>
        </p:grpSpPr>
        <p:sp>
          <p:nvSpPr>
            <p:cNvPr id="114" name=""/>
            <p:cNvSpPr/>
            <p:nvPr/>
          </p:nvSpPr>
          <p:spPr>
            <a:xfrm>
              <a:off x="7765920" y="336600"/>
              <a:ext cx="633240" cy="13536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765920" y="1701720"/>
              <a:ext cx="164880" cy="507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34280" y="1703520"/>
              <a:ext cx="164880" cy="504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7" name="front" descr=""/>
          <p:cNvPicPr/>
          <p:nvPr/>
        </p:nvPicPr>
        <p:blipFill>
          <a:blip r:embed="rId1"/>
          <a:stretch/>
        </p:blipFill>
        <p:spPr>
          <a:xfrm>
            <a:off x="8007480" y="3733920"/>
            <a:ext cx="581040" cy="164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7823880" y="2813040"/>
            <a:ext cx="1003320" cy="2876760"/>
            <a:chOff x="7823880" y="2813040"/>
            <a:chExt cx="1003320" cy="2876760"/>
          </a:xfrm>
        </p:grpSpPr>
        <p:grpSp>
          <p:nvGrpSpPr>
            <p:cNvPr id="119" name=""/>
            <p:cNvGrpSpPr/>
            <p:nvPr/>
          </p:nvGrpSpPr>
          <p:grpSpPr>
            <a:xfrm>
              <a:off x="7940520" y="2997360"/>
              <a:ext cx="633240" cy="1540800"/>
              <a:chOff x="7940520" y="2997360"/>
              <a:chExt cx="633240" cy="1540800"/>
            </a:xfrm>
          </p:grpSpPr>
          <p:sp>
            <p:nvSpPr>
              <p:cNvPr id="120" name=""/>
              <p:cNvSpPr/>
              <p:nvPr/>
            </p:nvSpPr>
            <p:spPr>
              <a:xfrm>
                <a:off x="7940520" y="2997360"/>
                <a:ext cx="633240" cy="14716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940520" y="4481640"/>
                <a:ext cx="164880" cy="5544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408880" y="4483080"/>
                <a:ext cx="164880" cy="5508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7830720" y="2813040"/>
              <a:ext cx="9500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MA12000 S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823880" y="4516560"/>
              <a:ext cx="100332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5994-B21/60H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42U Modula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Storage Cab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 M2200 Enclosu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  4310 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SCSI VHD-VH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ab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Controllers, Batteri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and Disks ordered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eparatel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591960" y="1571760"/>
            <a:ext cx="1003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2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22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3) 425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ontrollers, Batt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nd Disks order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eparate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718320" y="395280"/>
            <a:ext cx="651960" cy="1131840"/>
            <a:chOff x="6718320" y="395280"/>
            <a:chExt cx="651960" cy="1131840"/>
          </a:xfrm>
        </p:grpSpPr>
        <p:sp>
          <p:nvSpPr>
            <p:cNvPr id="127" name=""/>
            <p:cNvSpPr/>
            <p:nvPr/>
          </p:nvSpPr>
          <p:spPr>
            <a:xfrm>
              <a:off x="6718320" y="395280"/>
              <a:ext cx="65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8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737400" y="579600"/>
              <a:ext cx="632880" cy="947520"/>
              <a:chOff x="6737400" y="579600"/>
              <a:chExt cx="632880" cy="947520"/>
            </a:xfrm>
          </p:grpSpPr>
          <p:sp>
            <p:nvSpPr>
              <p:cNvPr id="129" name=""/>
              <p:cNvSpPr/>
              <p:nvPr/>
            </p:nvSpPr>
            <p:spPr>
              <a:xfrm>
                <a:off x="6737400" y="579600"/>
                <a:ext cx="632880" cy="9046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737400" y="1492200"/>
                <a:ext cx="164880" cy="3384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205400" y="1493280"/>
                <a:ext cx="164880" cy="3384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>
            <a:off x="2136600" y="35568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CTO orders require Part Number118102-888 on the first 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38520" y="4540320"/>
            <a:ext cx="329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3800" y="4548240"/>
            <a:ext cx="325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CSI Extenders / Translators for External (to cabinet) Devic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S-DWZZC-A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 Ultra SCSI to SE Ultra SCSI, Tablet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S-DWZZC-D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 Ultra SCSI to Diff Ultra SCSI, Tablet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383080"/>
            <a:ext cx="175896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4631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10R (Ultra 3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Single Bus, 10 Bay Device Enclosure, RETMA mounting kit, (2) Blower, (2) Power Supply, (1) IEC-C13 to            NEMA 5-15P Power Cord, (1) 3.7M VHD - VHD SCSI C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4630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- 4350R (Ultra 3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Dual Bus, 10 Bay Device Enclosure, RETMA mounting kit, (2) Blowers, (2) Power Supplies, (2) IEC-C13 to NEMA 5-15P Power Cords , (2) IEC-C13 to IEC-C14 Power Cords, (2) 3.7M VHD - VHD SCSI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753240" y="903240"/>
            <a:ext cx="590400" cy="342720"/>
            <a:chOff x="6753240" y="903240"/>
            <a:chExt cx="590400" cy="342720"/>
          </a:xfrm>
        </p:grpSpPr>
        <p:sp>
          <p:nvSpPr>
            <p:cNvPr id="137" name=""/>
            <p:cNvSpPr/>
            <p:nvPr/>
          </p:nvSpPr>
          <p:spPr>
            <a:xfrm>
              <a:off x="6753240" y="90324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59720" y="92520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753240" y="741240"/>
            <a:ext cx="590400" cy="215640"/>
            <a:chOff x="6753240" y="741240"/>
            <a:chExt cx="590400" cy="215640"/>
          </a:xfrm>
        </p:grpSpPr>
        <p:sp>
          <p:nvSpPr>
            <p:cNvPr id="140" name=""/>
            <p:cNvSpPr/>
            <p:nvPr/>
          </p:nvSpPr>
          <p:spPr>
            <a:xfrm>
              <a:off x="6753240" y="784080"/>
              <a:ext cx="590400" cy="11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61240" y="74124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7781760" y="512640"/>
            <a:ext cx="590400" cy="215640"/>
            <a:chOff x="7781760" y="512640"/>
            <a:chExt cx="590400" cy="215640"/>
          </a:xfrm>
        </p:grpSpPr>
        <p:sp>
          <p:nvSpPr>
            <p:cNvPr id="143" name=""/>
            <p:cNvSpPr/>
            <p:nvPr/>
          </p:nvSpPr>
          <p:spPr>
            <a:xfrm>
              <a:off x="7781760" y="555480"/>
              <a:ext cx="590400" cy="11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89760" y="51264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775640" y="674640"/>
            <a:ext cx="626760" cy="714240"/>
            <a:chOff x="7775640" y="674640"/>
            <a:chExt cx="626760" cy="714240"/>
          </a:xfrm>
        </p:grpSpPr>
        <p:sp>
          <p:nvSpPr>
            <p:cNvPr id="146" name=""/>
            <p:cNvSpPr/>
            <p:nvPr/>
          </p:nvSpPr>
          <p:spPr>
            <a:xfrm>
              <a:off x="7781760" y="674640"/>
              <a:ext cx="599760" cy="71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75640" y="874440"/>
              <a:ext cx="62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8744040" y="874800"/>
            <a:ext cx="590400" cy="342720"/>
            <a:chOff x="8744040" y="874800"/>
            <a:chExt cx="590400" cy="342720"/>
          </a:xfrm>
        </p:grpSpPr>
        <p:sp>
          <p:nvSpPr>
            <p:cNvPr id="149" name=""/>
            <p:cNvSpPr/>
            <p:nvPr/>
          </p:nvSpPr>
          <p:spPr>
            <a:xfrm>
              <a:off x="8744040" y="87480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750520" y="89676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8744040" y="712800"/>
            <a:ext cx="590400" cy="215640"/>
            <a:chOff x="8744040" y="712800"/>
            <a:chExt cx="590400" cy="215640"/>
          </a:xfrm>
        </p:grpSpPr>
        <p:sp>
          <p:nvSpPr>
            <p:cNvPr id="152" name=""/>
            <p:cNvSpPr/>
            <p:nvPr/>
          </p:nvSpPr>
          <p:spPr>
            <a:xfrm>
              <a:off x="8744040" y="75528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52040" y="71280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962840" y="3218040"/>
            <a:ext cx="590400" cy="215640"/>
            <a:chOff x="7962840" y="3218040"/>
            <a:chExt cx="590400" cy="215640"/>
          </a:xfrm>
        </p:grpSpPr>
        <p:sp>
          <p:nvSpPr>
            <p:cNvPr id="155" name=""/>
            <p:cNvSpPr/>
            <p:nvPr/>
          </p:nvSpPr>
          <p:spPr>
            <a:xfrm>
              <a:off x="7962840" y="326052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70840" y="321804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7956720" y="3379680"/>
            <a:ext cx="617400" cy="714240"/>
            <a:chOff x="7956720" y="3379680"/>
            <a:chExt cx="617400" cy="714240"/>
          </a:xfrm>
        </p:grpSpPr>
        <p:sp>
          <p:nvSpPr>
            <p:cNvPr id="158" name=""/>
            <p:cNvSpPr/>
            <p:nvPr/>
          </p:nvSpPr>
          <p:spPr>
            <a:xfrm>
              <a:off x="7962840" y="3379680"/>
              <a:ext cx="590760" cy="71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56720" y="3579480"/>
              <a:ext cx="61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10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877240" y="3198960"/>
            <a:ext cx="590400" cy="342720"/>
            <a:chOff x="8877240" y="3198960"/>
            <a:chExt cx="590400" cy="342720"/>
          </a:xfrm>
        </p:grpSpPr>
        <p:sp>
          <p:nvSpPr>
            <p:cNvPr id="161" name=""/>
            <p:cNvSpPr/>
            <p:nvPr/>
          </p:nvSpPr>
          <p:spPr>
            <a:xfrm>
              <a:off x="8877240" y="319896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883720" y="322092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8877240" y="3036960"/>
            <a:ext cx="590400" cy="215640"/>
            <a:chOff x="8877240" y="3036960"/>
            <a:chExt cx="590400" cy="215640"/>
          </a:xfrm>
        </p:grpSpPr>
        <p:sp>
          <p:nvSpPr>
            <p:cNvPr id="164" name=""/>
            <p:cNvSpPr/>
            <p:nvPr/>
          </p:nvSpPr>
          <p:spPr>
            <a:xfrm>
              <a:off x="8877240" y="307944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985240" y="303696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8877240" y="3684600"/>
            <a:ext cx="590400" cy="342720"/>
            <a:chOff x="8877240" y="3684600"/>
            <a:chExt cx="590400" cy="342720"/>
          </a:xfrm>
        </p:grpSpPr>
        <p:sp>
          <p:nvSpPr>
            <p:cNvPr id="167" name=""/>
            <p:cNvSpPr/>
            <p:nvPr/>
          </p:nvSpPr>
          <p:spPr>
            <a:xfrm>
              <a:off x="8877240" y="368460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883720" y="370656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877240" y="3522600"/>
            <a:ext cx="590400" cy="215640"/>
            <a:chOff x="8877240" y="3522600"/>
            <a:chExt cx="590400" cy="215640"/>
          </a:xfrm>
        </p:grpSpPr>
        <p:sp>
          <p:nvSpPr>
            <p:cNvPr id="170" name=""/>
            <p:cNvSpPr/>
            <p:nvPr/>
          </p:nvSpPr>
          <p:spPr>
            <a:xfrm>
              <a:off x="8877240" y="356508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85240" y="352260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8877240" y="4170240"/>
            <a:ext cx="590400" cy="342720"/>
            <a:chOff x="8877240" y="4170240"/>
            <a:chExt cx="590400" cy="342720"/>
          </a:xfrm>
        </p:grpSpPr>
        <p:sp>
          <p:nvSpPr>
            <p:cNvPr id="173" name=""/>
            <p:cNvSpPr/>
            <p:nvPr/>
          </p:nvSpPr>
          <p:spPr>
            <a:xfrm>
              <a:off x="8877240" y="417024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883720" y="419220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8877240" y="4008600"/>
            <a:ext cx="590400" cy="215640"/>
            <a:chOff x="8877240" y="4008600"/>
            <a:chExt cx="590400" cy="215640"/>
          </a:xfrm>
        </p:grpSpPr>
        <p:sp>
          <p:nvSpPr>
            <p:cNvPr id="176" name=""/>
            <p:cNvSpPr/>
            <p:nvPr/>
          </p:nvSpPr>
          <p:spPr>
            <a:xfrm>
              <a:off x="8877240" y="405108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985240" y="400860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8" name=""/>
          <p:cNvGraphicFramePr/>
          <p:nvPr/>
        </p:nvGraphicFramePr>
        <p:xfrm>
          <a:off x="179280" y="1427040"/>
          <a:ext cx="1371600" cy="51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427040"/>
                    <a:ext cx="13716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69920" y="746280"/>
          <a:ext cx="1447920" cy="50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920" y="746280"/>
                    <a:ext cx="14479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81080" y="2708280"/>
          <a:ext cx="1380960" cy="523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1080" y="2708280"/>
                    <a:ext cx="1380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179280" y="4897440"/>
          <a:ext cx="1409760" cy="514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9280" y="4897440"/>
                    <a:ext cx="14097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16:16:58Z</dcterms:created>
  <dc:creator>Brian Montaquila</dc:creator>
  <dc:description/>
  <dc:language>en-US</dc:language>
  <cp:lastModifiedBy>GurnickJ</cp:lastModifiedBy>
  <cp:lastPrinted>2000-06-09T14:02:01Z</cp:lastPrinted>
  <dcterms:modified xsi:type="dcterms:W3CDTF">2000-07-17T21:36:48Z</dcterms:modified>
  <cp:revision>74</cp:revision>
  <dc:subject/>
  <dc:title>No Slide Title</dc:title>
</cp:coreProperties>
</file>