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E2F4-5B76-46FE-95B6-B421006E52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DCF7C-8703-4F13-A6BB-ABDBD50E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22F8-181C-4FCC-8AFD-7C9F0D9F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BCFA9-9551-4DE6-9A81-D6B952969B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D4914-5AAE-4A23-9F4A-71023BE1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9A7AE-4E36-4662-AC30-18ED511C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55DED-54A6-4712-A363-1284B4BD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5803D-568E-46C8-B766-9B360F06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04BBB-E15D-4AA0-A7C3-24EE4F59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98B4B-0E31-4CE3-8C28-52EDB527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49478-A874-48BF-9D8D-C526C79B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53C4-54A6-482C-B41E-065ABD3A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3B56B-E6A1-4D86-A2D6-727AD480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AEB1E-89C9-49D4-B636-7CF56FB6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6A7CE-B14A-44BD-A74A-6964362E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54201-236D-4BB9-B41D-C8F34079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104E6-CD0E-4F53-A5DF-464F1910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5A59-F607-4B6F-BBA5-45CF1E74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A6F18-35D8-41AC-BD55-97490B16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A5BA-8E36-40FD-880D-A63FE3E7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CC671-5ED5-4393-8641-33A61633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FB5C5-7C37-4C42-9144-BAE6DE68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9391-129A-44E7-8510-2ECC99DF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D1AB-D9B7-4EF0-89A5-2694932D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0AA9-1E7D-45E4-BAB3-503BCACB6E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82A7-7B21-4A5D-A696-821DA25A1F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468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89" name=""/>
            <p:cNvSpPr/>
            <p:nvPr/>
          </p:nvSpPr>
          <p:spPr>
            <a:xfrm>
              <a:off x="7848720" y="2863800"/>
              <a:ext cx="137160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98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102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1066680"/>
            <a:ext cx="8229240" cy="1022400"/>
            <a:chOff x="0" y="1066680"/>
            <a:chExt cx="8229240" cy="1022400"/>
          </a:xfrm>
        </p:grpSpPr>
        <p:grpSp>
          <p:nvGrpSpPr>
            <p:cNvPr id="108" name=""/>
            <p:cNvGrpSpPr/>
            <p:nvPr/>
          </p:nvGrpSpPr>
          <p:grpSpPr>
            <a:xfrm>
              <a:off x="47520" y="1066680"/>
              <a:ext cx="1811880" cy="991800"/>
              <a:chOff x="47520" y="1066680"/>
              <a:chExt cx="1811880" cy="991800"/>
            </a:xfrm>
          </p:grpSpPr>
          <p:sp>
            <p:nvSpPr>
              <p:cNvPr id="109" name=""/>
              <p:cNvSpPr/>
              <p:nvPr/>
            </p:nvSpPr>
            <p:spPr>
              <a:xfrm>
                <a:off x="47520" y="113976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000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7400" y="116892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7400" y="111060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7400" y="106668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504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1000" y="116892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11000" y="111060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1000" y="106668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9900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74960" y="116892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74960" y="111060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74960" y="106668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6296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38920" y="116892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38920" y="111060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38920" y="106668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83280" y="114336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520" y="149256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1400" y="138168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7360" y="135468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7360" y="129636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7360" y="125208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536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1320" y="135468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1320" y="129636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1320" y="125208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5932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34920" y="135468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34920" y="129636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34920" y="125208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2292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00320" y="135468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00320" y="129636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00320" y="125208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549440" y="1076040"/>
              <a:ext cx="1919160" cy="981000"/>
              <a:chOff x="1549440" y="1076040"/>
              <a:chExt cx="1919160" cy="981000"/>
            </a:xfrm>
          </p:grpSpPr>
          <p:sp>
            <p:nvSpPr>
              <p:cNvPr id="145" name=""/>
              <p:cNvSpPr/>
              <p:nvPr/>
            </p:nvSpPr>
            <p:spPr>
              <a:xfrm>
                <a:off x="1549440" y="114840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852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66960" y="117684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66960" y="111960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66960" y="107604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7188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52520" y="117684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52520" y="111960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52520" y="107604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574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37720" y="117684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37720" y="111960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637720" y="107604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9426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23280" y="117684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23280" y="111960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23280" y="107604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72320" y="115344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49440" y="149652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38720" y="138636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19000" y="136008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19000" y="130248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19000" y="125892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2392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04560" y="136008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104560" y="13024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104560" y="125892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0912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89760" y="136008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9760" y="13024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89760" y="125892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9468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6040" y="136008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76040" y="130248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76040" y="125892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175920" y="1066680"/>
              <a:ext cx="2005200" cy="988920"/>
              <a:chOff x="3175920" y="1066680"/>
              <a:chExt cx="2005200" cy="988920"/>
            </a:xfrm>
          </p:grpSpPr>
          <p:sp>
            <p:nvSpPr>
              <p:cNvPr id="181" name=""/>
              <p:cNvSpPr/>
              <p:nvPr/>
            </p:nvSpPr>
            <p:spPr>
              <a:xfrm>
                <a:off x="3175920" y="113940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3423240" y="1066680"/>
                <a:ext cx="353880" cy="212760"/>
                <a:chOff x="3423240" y="1066680"/>
                <a:chExt cx="353880" cy="212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423240" y="119556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3507480" y="1066680"/>
                  <a:ext cx="265680" cy="196200"/>
                  <a:chOff x="3507480" y="1066680"/>
                  <a:chExt cx="265680" cy="1962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507480" y="116820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507480" y="111024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507480" y="106668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3826080" y="1066680"/>
                <a:ext cx="354240" cy="212760"/>
                <a:chOff x="3826080" y="1066680"/>
                <a:chExt cx="354240" cy="2127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82608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3910680" y="1066680"/>
                  <a:ext cx="266040" cy="196200"/>
                  <a:chOff x="3910680" y="1066680"/>
                  <a:chExt cx="266040" cy="196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391068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91068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91068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4228920" y="1066680"/>
                <a:ext cx="354240" cy="212760"/>
                <a:chOff x="4228920" y="1066680"/>
                <a:chExt cx="354240" cy="212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22892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313520" y="1066680"/>
                  <a:ext cx="266040" cy="196200"/>
                  <a:chOff x="4313520" y="1066680"/>
                  <a:chExt cx="266040" cy="1962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31352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31352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31352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4631760" y="1066680"/>
                <a:ext cx="354240" cy="212760"/>
                <a:chOff x="4631760" y="1066680"/>
                <a:chExt cx="354240" cy="212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63176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4716360" y="1066680"/>
                  <a:ext cx="266040" cy="196200"/>
                  <a:chOff x="4716360" y="1066680"/>
                  <a:chExt cx="266040" cy="196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471636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71636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71636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4871880" y="114444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175920" y="149004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3268440" y="1251360"/>
                <a:ext cx="354240" cy="212760"/>
                <a:chOff x="3268440" y="1251360"/>
                <a:chExt cx="354240" cy="2127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26844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3353040" y="1251360"/>
                  <a:ext cx="266040" cy="196200"/>
                  <a:chOff x="3353040" y="1251360"/>
                  <a:chExt cx="266040" cy="19620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335304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35304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35304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3671280" y="1251360"/>
                <a:ext cx="354240" cy="212760"/>
                <a:chOff x="3671280" y="1251360"/>
                <a:chExt cx="354240" cy="212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7128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"/>
                <p:cNvGrpSpPr/>
                <p:nvPr/>
              </p:nvGrpSpPr>
              <p:grpSpPr>
                <a:xfrm>
                  <a:off x="3755880" y="1251360"/>
                  <a:ext cx="266040" cy="196200"/>
                  <a:chOff x="3755880" y="1251360"/>
                  <a:chExt cx="266040" cy="1962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375588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75588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75588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4074120" y="1251360"/>
                <a:ext cx="354240" cy="212760"/>
                <a:chOff x="4074120" y="1251360"/>
                <a:chExt cx="354240" cy="2127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07412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4158720" y="1251360"/>
                  <a:ext cx="266040" cy="196200"/>
                  <a:chOff x="4158720" y="1251360"/>
                  <a:chExt cx="266040" cy="1962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15872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15872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15872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" name=""/>
              <p:cNvGrpSpPr/>
              <p:nvPr/>
            </p:nvGrpSpPr>
            <p:grpSpPr>
              <a:xfrm>
                <a:off x="4477320" y="1251360"/>
                <a:ext cx="354240" cy="212760"/>
                <a:chOff x="4477320" y="1251360"/>
                <a:chExt cx="354240" cy="212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47732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4561920" y="1251360"/>
                  <a:ext cx="266040" cy="196200"/>
                  <a:chOff x="4561920" y="1251360"/>
                  <a:chExt cx="266040" cy="1962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456192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56192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56192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2" name=""/>
            <p:cNvGrpSpPr/>
            <p:nvPr/>
          </p:nvGrpSpPr>
          <p:grpSpPr>
            <a:xfrm>
              <a:off x="4835880" y="1077840"/>
              <a:ext cx="1928520" cy="981000"/>
              <a:chOff x="4835880" y="1077840"/>
              <a:chExt cx="1928520" cy="981000"/>
            </a:xfrm>
          </p:grpSpPr>
          <p:sp>
            <p:nvSpPr>
              <p:cNvPr id="233" name=""/>
              <p:cNvSpPr/>
              <p:nvPr/>
            </p:nvSpPr>
            <p:spPr>
              <a:xfrm>
                <a:off x="4835880" y="114984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7312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54840" y="117864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54840" y="112104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54840" y="107784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6156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42200" y="117864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42200" y="112104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542200" y="107784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856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29560" y="117864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29560" y="112104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29560" y="107784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23592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16920" y="117864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16920" y="112104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16920" y="107784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66680" y="115524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35880" y="149796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25520" y="138816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06520" y="136188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06520" y="13042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06520" y="126072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31288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93520" y="136188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93520" y="130428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93520" y="126072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9988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80520" y="136188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80520" y="130428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80520" y="126072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8724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68960" y="136188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68960" y="130428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168960" y="126072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1559880" y="15764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38000" y="15764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49000" y="15764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153648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447960" y="1077840"/>
              <a:ext cx="1781280" cy="981000"/>
              <a:chOff x="6447960" y="1077840"/>
              <a:chExt cx="1781280" cy="981000"/>
            </a:xfrm>
          </p:grpSpPr>
          <p:sp>
            <p:nvSpPr>
              <p:cNvPr id="273" name=""/>
              <p:cNvSpPr/>
              <p:nvPr/>
            </p:nvSpPr>
            <p:spPr>
              <a:xfrm>
                <a:off x="6447960" y="115020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6684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42800" y="117900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42800" y="112140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42800" y="107784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2576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00640" y="117900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00640" y="112140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00640" y="107784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8360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458120" y="117900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58120" y="112140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58120" y="107784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4108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15600" y="117900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15600" y="112140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15600" y="107784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57800" y="115344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47960" y="149904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30760" y="138924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05280" y="136260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605280" y="130500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05280" y="126108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8824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63120" y="136260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63120" y="130500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63120" y="126108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4608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320600" y="136260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20600" y="130500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20600" y="126108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60392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79520" y="136260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79520" y="130500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79520" y="126108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585480" y="155232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7924680" y="22096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B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2057400"/>
            <a:ext cx="3886200" cy="40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Sin requisitos de entrena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5880" y="2133720"/>
            <a:ext cx="1752840" cy="4647960"/>
            <a:chOff x="6095880" y="2133720"/>
            <a:chExt cx="1752840" cy="4647960"/>
          </a:xfrm>
        </p:grpSpPr>
        <p:sp>
          <p:nvSpPr>
            <p:cNvPr id="312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2133720"/>
              <a:ext cx="1752840" cy="304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33cc33"/>
                  </a:solidFill>
                  <a:latin typeface="Arial"/>
                </a:rPr>
                <a:t>Sales  Skil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1005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8" name=""/>
          <p:cNvGrpSpPr/>
          <p:nvPr/>
        </p:nvGrpSpPr>
        <p:grpSpPr>
          <a:xfrm>
            <a:off x="7924680" y="2529000"/>
            <a:ext cx="1371600" cy="3528000"/>
            <a:chOff x="7924680" y="2529000"/>
            <a:chExt cx="1371600" cy="3528000"/>
          </a:xfrm>
        </p:grpSpPr>
        <p:sp>
          <p:nvSpPr>
            <p:cNvPr id="319" name=""/>
            <p:cNvSpPr/>
            <p:nvPr/>
          </p:nvSpPr>
          <p:spPr>
            <a:xfrm>
              <a:off x="7924680" y="25290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24680" y="39006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24680" y="541008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24680" y="5029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4680" y="36576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59092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705720" y="3886200"/>
            <a:ext cx="990360" cy="990720"/>
            <a:chOff x="6705720" y="3886200"/>
            <a:chExt cx="990360" cy="990720"/>
          </a:xfrm>
        </p:grpSpPr>
        <p:sp>
          <p:nvSpPr>
            <p:cNvPr id="326" name=""/>
            <p:cNvSpPr/>
            <p:nvPr/>
          </p:nvSpPr>
          <p:spPr>
            <a:xfrm>
              <a:off x="6857640" y="3886200"/>
              <a:ext cx="7617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05720" y="4267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5720" y="464832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ASE Fu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330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705720" y="5410080"/>
            <a:ext cx="990360" cy="1295640"/>
            <a:chOff x="6705720" y="5410080"/>
            <a:chExt cx="990360" cy="1295640"/>
          </a:xfrm>
        </p:grpSpPr>
        <p:sp>
          <p:nvSpPr>
            <p:cNvPr id="333" name=""/>
            <p:cNvSpPr/>
            <p:nvPr/>
          </p:nvSpPr>
          <p:spPr>
            <a:xfrm>
              <a:off x="6857640" y="5410080"/>
              <a:ext cx="7617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3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79132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E Fu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05720" y="6172200"/>
              <a:ext cx="99036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Master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14400" y="541008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6320" y="1447920"/>
            <a:ext cx="8153280" cy="982080"/>
            <a:chOff x="76320" y="1447920"/>
            <a:chExt cx="8153280" cy="982080"/>
          </a:xfrm>
        </p:grpSpPr>
        <p:grpSp>
          <p:nvGrpSpPr>
            <p:cNvPr id="339" name=""/>
            <p:cNvGrpSpPr/>
            <p:nvPr/>
          </p:nvGrpSpPr>
          <p:grpSpPr>
            <a:xfrm>
              <a:off x="123840" y="1447920"/>
              <a:ext cx="1781280" cy="914760"/>
              <a:chOff x="123840" y="1447920"/>
              <a:chExt cx="1781280" cy="914760"/>
            </a:xfrm>
          </p:grpSpPr>
          <p:sp>
            <p:nvSpPr>
              <p:cNvPr id="340" name=""/>
              <p:cNvSpPr/>
              <p:nvPr/>
            </p:nvSpPr>
            <p:spPr>
              <a:xfrm>
                <a:off x="123840" y="151524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272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8680" y="154224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8680" y="148860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8680" y="144792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0128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6160" y="154224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76160" y="148860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6160" y="144792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5912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34000" y="154224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134000" y="148860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134000" y="144792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1696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91480" y="154224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491480" y="148860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491480" y="144792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33680" y="151848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3840" y="184068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6280" y="173808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81160" y="171324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1160" y="165960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1160" y="161892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412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9000" y="171324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9000" y="165960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9000" y="161892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2196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96480" y="171324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96480" y="165960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96480" y="161892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27944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5400" y="171324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355400" y="165960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355400" y="161892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600200" y="1449000"/>
              <a:ext cx="1887480" cy="903960"/>
              <a:chOff x="1600200" y="1449000"/>
              <a:chExt cx="1887480" cy="903960"/>
            </a:xfrm>
          </p:grpSpPr>
          <p:sp>
            <p:nvSpPr>
              <p:cNvPr id="376" name=""/>
              <p:cNvSpPr/>
              <p:nvPr/>
            </p:nvSpPr>
            <p:spPr>
              <a:xfrm>
                <a:off x="1600200" y="151560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3240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12320" y="154188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12320" y="148896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12320" y="144900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21256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91400" y="154188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91400" y="148896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91400" y="144900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9164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670480" y="154188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70480" y="148896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670480" y="144900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7036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9560" y="154188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560" y="148896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560" y="144900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96080" y="152028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00200" y="183636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88040" y="173520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767240" y="171072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67240" y="165780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767240" y="161748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06712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45960" y="1710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45960" y="1657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145960" y="161748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44584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525040" y="1710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25040" y="1657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25040" y="161748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82492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05200" y="171072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05200" y="165780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05200" y="161748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3200400" y="1449000"/>
              <a:ext cx="1971720" cy="911880"/>
              <a:chOff x="3200400" y="1449000"/>
              <a:chExt cx="1971720" cy="911880"/>
            </a:xfrm>
          </p:grpSpPr>
          <p:sp>
            <p:nvSpPr>
              <p:cNvPr id="412" name=""/>
              <p:cNvSpPr/>
              <p:nvPr/>
            </p:nvSpPr>
            <p:spPr>
              <a:xfrm>
                <a:off x="3200400" y="151596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3443400" y="1449000"/>
                <a:ext cx="348120" cy="196200"/>
                <a:chOff x="3443400" y="1449000"/>
                <a:chExt cx="348120" cy="1962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443400" y="156780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3526560" y="1449000"/>
                  <a:ext cx="261360" cy="181080"/>
                  <a:chOff x="3526560" y="1449000"/>
                  <a:chExt cx="261360" cy="1810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526560" y="154260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526560" y="148932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26560" y="144900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9" name=""/>
              <p:cNvGrpSpPr/>
              <p:nvPr/>
            </p:nvGrpSpPr>
            <p:grpSpPr>
              <a:xfrm>
                <a:off x="3839760" y="1449000"/>
                <a:ext cx="348480" cy="196200"/>
                <a:chOff x="3839760" y="1449000"/>
                <a:chExt cx="348480" cy="1962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3839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3922920" y="1449000"/>
                  <a:ext cx="261720" cy="181080"/>
                  <a:chOff x="3922920" y="1449000"/>
                  <a:chExt cx="261720" cy="1810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3922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22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3922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4235760" y="1449000"/>
                <a:ext cx="348480" cy="196200"/>
                <a:chOff x="4235760" y="1449000"/>
                <a:chExt cx="348480" cy="196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235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4318920" y="1449000"/>
                  <a:ext cx="261720" cy="181080"/>
                  <a:chOff x="4318920" y="1449000"/>
                  <a:chExt cx="261720" cy="18108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4318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4318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318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4631760" y="1449000"/>
                <a:ext cx="348480" cy="196200"/>
                <a:chOff x="4631760" y="1449000"/>
                <a:chExt cx="348480" cy="1962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631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4714920" y="1449000"/>
                  <a:ext cx="261720" cy="181080"/>
                  <a:chOff x="4714920" y="1449000"/>
                  <a:chExt cx="261720" cy="1810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4714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714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714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>
                <a:off x="4867920" y="152064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200400" y="183960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3291480" y="1619280"/>
                <a:ext cx="348480" cy="196200"/>
                <a:chOff x="3291480" y="1619280"/>
                <a:chExt cx="348480" cy="1962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29148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3374640" y="1619280"/>
                  <a:ext cx="261720" cy="181080"/>
                  <a:chOff x="3374640" y="1619280"/>
                  <a:chExt cx="261720" cy="18108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337464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37464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37464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687480" y="1619280"/>
                <a:ext cx="348480" cy="196200"/>
                <a:chOff x="3687480" y="1619280"/>
                <a:chExt cx="348480" cy="1962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8748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770640" y="1619280"/>
                  <a:ext cx="261720" cy="181080"/>
                  <a:chOff x="3770640" y="1619280"/>
                  <a:chExt cx="261720" cy="18108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377064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377064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77064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4083840" y="1619280"/>
                <a:ext cx="348480" cy="196200"/>
                <a:chOff x="4083840" y="1619280"/>
                <a:chExt cx="348480" cy="1962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08384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4167000" y="1619280"/>
                  <a:ext cx="261720" cy="181080"/>
                  <a:chOff x="4167000" y="1619280"/>
                  <a:chExt cx="261720" cy="1810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416700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16700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16700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7" name=""/>
              <p:cNvGrpSpPr/>
              <p:nvPr/>
            </p:nvGrpSpPr>
            <p:grpSpPr>
              <a:xfrm>
                <a:off x="4479840" y="1619280"/>
                <a:ext cx="348480" cy="196200"/>
                <a:chOff x="4479840" y="1619280"/>
                <a:chExt cx="348480" cy="1962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47984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"/>
                <p:cNvGrpSpPr/>
                <p:nvPr/>
              </p:nvGrpSpPr>
              <p:grpSpPr>
                <a:xfrm>
                  <a:off x="4563000" y="1619280"/>
                  <a:ext cx="261720" cy="181080"/>
                  <a:chOff x="4563000" y="1619280"/>
                  <a:chExt cx="261720" cy="1810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456300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56300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56300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3" name=""/>
            <p:cNvGrpSpPr/>
            <p:nvPr/>
          </p:nvGrpSpPr>
          <p:grpSpPr>
            <a:xfrm>
              <a:off x="4876920" y="1457640"/>
              <a:ext cx="1897200" cy="904320"/>
              <a:chOff x="4876920" y="1457640"/>
              <a:chExt cx="1897200" cy="904320"/>
            </a:xfrm>
          </p:grpSpPr>
          <p:sp>
            <p:nvSpPr>
              <p:cNvPr id="464" name=""/>
              <p:cNvSpPr/>
              <p:nvPr/>
            </p:nvSpPr>
            <p:spPr>
              <a:xfrm>
                <a:off x="4876920" y="152388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1020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90840" y="155052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90840" y="149760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90840" y="145764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9216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571720" y="155052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71720" y="149760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71720" y="145764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7340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952960" y="155052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952960" y="149760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52960" y="145764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25428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33840" y="155052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333840" y="149760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33840" y="145764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81440" y="152892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876920" y="184500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65120" y="174384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44680" y="171936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44680" y="166644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44680" y="162612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4600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25560" y="171936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25560" y="166644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25560" y="162612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72688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06440" y="171936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06440" y="166644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06440" y="162612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0776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88400" y="171936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88400" y="166644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88400" y="162612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1601280" y="1917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49520" y="1917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31360" y="1917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320" y="188100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477120" y="1457640"/>
              <a:ext cx="1752480" cy="904680"/>
              <a:chOff x="6477120" y="1457640"/>
              <a:chExt cx="1752480" cy="904680"/>
            </a:xfrm>
          </p:grpSpPr>
          <p:sp>
            <p:nvSpPr>
              <p:cNvPr id="504" name=""/>
              <p:cNvSpPr/>
              <p:nvPr/>
            </p:nvSpPr>
            <p:spPr>
              <a:xfrm>
                <a:off x="6477120" y="152424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9240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66920" y="155088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766920" y="149796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66920" y="145764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04556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119000" y="155088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119000" y="149796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19000" y="145764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39764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470720" y="155088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470720" y="149796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470720" y="145764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74936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822800" y="155088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822800" y="149796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822800" y="145764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962480" y="152712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477120" y="184608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8480" y="174456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31920" y="172008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631920" y="166716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31920" y="162684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1020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83640" y="172008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83640" y="166716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83640" y="162684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26228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35720" y="172008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35720" y="166716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35720" y="162684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61436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688880" y="172008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88880" y="166716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688880" y="162684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6553440" y="189540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AlphaServ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09880" y="5410080"/>
            <a:ext cx="22100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"/>
          <p:cNvSpPr/>
          <p:nvPr/>
        </p:nvSpPr>
        <p:spPr>
          <a:xfrm>
            <a:off x="807732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077320" y="38862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77320" y="55627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54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55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58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62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67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71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6400800" y="4114800"/>
            <a:ext cx="16765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ull Line (55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75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3520" y="57913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80880" y="6248520"/>
            <a:ext cx="129564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6477120"/>
            <a:ext cx="13716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4419720"/>
            <a:ext cx="12956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438280" y="2971800"/>
            <a:ext cx="12956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438280" y="3962520"/>
            <a:ext cx="12956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514600" y="5943600"/>
            <a:ext cx="106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114800" y="441972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191120" y="6324480"/>
            <a:ext cx="16761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2280" y="510552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72200" y="6095880"/>
            <a:ext cx="198108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AN Solut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ast Tra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559-560--5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400800" y="5486400"/>
            <a:ext cx="16765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514600" y="5410080"/>
            <a:ext cx="106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"/>
          <p:cNvGraphicFramePr/>
          <p:nvPr/>
        </p:nvGraphicFramePr>
        <p:xfrm>
          <a:off x="76320" y="2098800"/>
          <a:ext cx="7848360" cy="45306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9680" y="4343400"/>
            <a:ext cx="3810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676520" y="3809880"/>
            <a:ext cx="48765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52480" y="2971800"/>
            <a:ext cx="48769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005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924680" y="2362320"/>
            <a:ext cx="1371600" cy="3528000"/>
            <a:chOff x="7924680" y="2362320"/>
            <a:chExt cx="1371600" cy="3528000"/>
          </a:xfrm>
        </p:grpSpPr>
        <p:sp>
          <p:nvSpPr>
            <p:cNvPr id="789" name=""/>
            <p:cNvSpPr/>
            <p:nvPr/>
          </p:nvSpPr>
          <p:spPr>
            <a:xfrm>
              <a:off x="7924680" y="2362320"/>
              <a:ext cx="1371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24680" y="373392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924680" y="52434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24680" y="48625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4680" y="3490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0" y="1117440"/>
            <a:ext cx="8153280" cy="1022040"/>
            <a:chOff x="0" y="1117440"/>
            <a:chExt cx="8153280" cy="1022040"/>
          </a:xfrm>
        </p:grpSpPr>
        <p:grpSp>
          <p:nvGrpSpPr>
            <p:cNvPr id="796" name=""/>
            <p:cNvGrpSpPr/>
            <p:nvPr/>
          </p:nvGrpSpPr>
          <p:grpSpPr>
            <a:xfrm>
              <a:off x="47520" y="1117440"/>
              <a:ext cx="1781280" cy="991800"/>
              <a:chOff x="47520" y="1117440"/>
              <a:chExt cx="1781280" cy="991800"/>
            </a:xfrm>
          </p:grpSpPr>
          <p:sp>
            <p:nvSpPr>
              <p:cNvPr id="797" name=""/>
              <p:cNvSpPr/>
              <p:nvPr/>
            </p:nvSpPr>
            <p:spPr>
              <a:xfrm>
                <a:off x="47520" y="119052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6640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42360" y="121968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42360" y="116136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42360" y="111744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2496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9840" y="121968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99840" y="116136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99840" y="111744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8280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057680" y="121968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057680" y="116136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057680" y="111744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4064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15160" y="121968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15160" y="116136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15160" y="111744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557360" y="119412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520" y="154332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29960" y="143244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04840" y="140544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4840" y="134712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4840" y="130284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8780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2680" y="140544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62680" y="134712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62680" y="130284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4564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920160" y="140544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920160" y="134712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920160" y="130284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0312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79080" y="140544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279080" y="134712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279080" y="130284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1523880" y="1118880"/>
              <a:ext cx="1887480" cy="980640"/>
              <a:chOff x="1523880" y="1118880"/>
              <a:chExt cx="1887480" cy="980640"/>
            </a:xfrm>
          </p:grpSpPr>
          <p:sp>
            <p:nvSpPr>
              <p:cNvPr id="833" name=""/>
              <p:cNvSpPr/>
              <p:nvPr/>
            </p:nvSpPr>
            <p:spPr>
              <a:xfrm>
                <a:off x="1523880" y="119124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5608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836000" y="121968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836000" y="116244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836000" y="111888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13624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15080" y="121968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15080" y="116244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215080" y="111888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51532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594160" y="121968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594160" y="116244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594160" y="111888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89404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73240" y="121968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973240" y="116244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73240" y="111888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19760" y="119628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523880" y="153900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611720" y="142920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690920" y="140256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690920" y="134532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690920" y="130176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9080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69640" y="140256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069640" y="134532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069640" y="130176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36952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48720" y="140256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448720" y="134532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448720" y="130176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74860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828880" y="140256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828880" y="134532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828880" y="130176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3124080" y="1118880"/>
              <a:ext cx="1971720" cy="988920"/>
              <a:chOff x="3124080" y="1118880"/>
              <a:chExt cx="1971720" cy="988920"/>
            </a:xfrm>
          </p:grpSpPr>
          <p:sp>
            <p:nvSpPr>
              <p:cNvPr id="869" name=""/>
              <p:cNvSpPr/>
              <p:nvPr/>
            </p:nvSpPr>
            <p:spPr>
              <a:xfrm>
                <a:off x="3124080" y="119160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0" name=""/>
              <p:cNvGrpSpPr/>
              <p:nvPr/>
            </p:nvGrpSpPr>
            <p:grpSpPr>
              <a:xfrm>
                <a:off x="3367080" y="1118880"/>
                <a:ext cx="348120" cy="212760"/>
                <a:chOff x="3367080" y="1118880"/>
                <a:chExt cx="348120" cy="21276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3367080" y="124776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2" name=""/>
                <p:cNvGrpSpPr/>
                <p:nvPr/>
              </p:nvGrpSpPr>
              <p:grpSpPr>
                <a:xfrm>
                  <a:off x="3450240" y="1118880"/>
                  <a:ext cx="261360" cy="196200"/>
                  <a:chOff x="3450240" y="1118880"/>
                  <a:chExt cx="261360" cy="1962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3450240" y="122040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3450240" y="116244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3450240" y="111888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"/>
              <p:cNvGrpSpPr/>
              <p:nvPr/>
            </p:nvGrpSpPr>
            <p:grpSpPr>
              <a:xfrm>
                <a:off x="3763440" y="1118880"/>
                <a:ext cx="348480" cy="212760"/>
                <a:chOff x="3763440" y="1118880"/>
                <a:chExt cx="348480" cy="21276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3763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"/>
                <p:cNvGrpSpPr/>
                <p:nvPr/>
              </p:nvGrpSpPr>
              <p:grpSpPr>
                <a:xfrm>
                  <a:off x="3846600" y="1118880"/>
                  <a:ext cx="261720" cy="196200"/>
                  <a:chOff x="3846600" y="1118880"/>
                  <a:chExt cx="261720" cy="19620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>
                    <a:off x="3846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846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846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2" name=""/>
              <p:cNvGrpSpPr/>
              <p:nvPr/>
            </p:nvGrpSpPr>
            <p:grpSpPr>
              <a:xfrm>
                <a:off x="4159440" y="1118880"/>
                <a:ext cx="348480" cy="212760"/>
                <a:chOff x="4159440" y="1118880"/>
                <a:chExt cx="348480" cy="21276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4159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4" name=""/>
                <p:cNvGrpSpPr/>
                <p:nvPr/>
              </p:nvGrpSpPr>
              <p:grpSpPr>
                <a:xfrm>
                  <a:off x="4242600" y="1118880"/>
                  <a:ext cx="261720" cy="196200"/>
                  <a:chOff x="4242600" y="1118880"/>
                  <a:chExt cx="261720" cy="19620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4242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4242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4242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"/>
              <p:cNvGrpSpPr/>
              <p:nvPr/>
            </p:nvGrpSpPr>
            <p:grpSpPr>
              <a:xfrm>
                <a:off x="4555440" y="1118880"/>
                <a:ext cx="348480" cy="212760"/>
                <a:chOff x="4555440" y="1118880"/>
                <a:chExt cx="348480" cy="21276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4555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90" name=""/>
                <p:cNvGrpSpPr/>
                <p:nvPr/>
              </p:nvGrpSpPr>
              <p:grpSpPr>
                <a:xfrm>
                  <a:off x="4638600" y="1118880"/>
                  <a:ext cx="261720" cy="196200"/>
                  <a:chOff x="4638600" y="1118880"/>
                  <a:chExt cx="261720" cy="19620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>
                    <a:off x="4638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4638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4638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4" name=""/>
              <p:cNvSpPr/>
              <p:nvPr/>
            </p:nvSpPr>
            <p:spPr>
              <a:xfrm>
                <a:off x="4791600" y="119664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124080" y="154224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6" name=""/>
              <p:cNvGrpSpPr/>
              <p:nvPr/>
            </p:nvGrpSpPr>
            <p:grpSpPr>
              <a:xfrm>
                <a:off x="3215160" y="1303560"/>
                <a:ext cx="348480" cy="212760"/>
                <a:chOff x="3215160" y="1303560"/>
                <a:chExt cx="348480" cy="21276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321516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98" name=""/>
                <p:cNvGrpSpPr/>
                <p:nvPr/>
              </p:nvGrpSpPr>
              <p:grpSpPr>
                <a:xfrm>
                  <a:off x="3298320" y="1303560"/>
                  <a:ext cx="261720" cy="196200"/>
                  <a:chOff x="3298320" y="1303560"/>
                  <a:chExt cx="261720" cy="19620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329832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329832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29832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2" name=""/>
              <p:cNvGrpSpPr/>
              <p:nvPr/>
            </p:nvGrpSpPr>
            <p:grpSpPr>
              <a:xfrm>
                <a:off x="3611160" y="1303560"/>
                <a:ext cx="348480" cy="212760"/>
                <a:chOff x="3611160" y="1303560"/>
                <a:chExt cx="348480" cy="21276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361116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4" name=""/>
                <p:cNvGrpSpPr/>
                <p:nvPr/>
              </p:nvGrpSpPr>
              <p:grpSpPr>
                <a:xfrm>
                  <a:off x="3694320" y="1303560"/>
                  <a:ext cx="261720" cy="196200"/>
                  <a:chOff x="3694320" y="1303560"/>
                  <a:chExt cx="261720" cy="19620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>
                    <a:off x="369432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369432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69432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8" name=""/>
              <p:cNvGrpSpPr/>
              <p:nvPr/>
            </p:nvGrpSpPr>
            <p:grpSpPr>
              <a:xfrm>
                <a:off x="4007520" y="1303560"/>
                <a:ext cx="348480" cy="212760"/>
                <a:chOff x="4007520" y="1303560"/>
                <a:chExt cx="348480" cy="21276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400752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0" name=""/>
                <p:cNvGrpSpPr/>
                <p:nvPr/>
              </p:nvGrpSpPr>
              <p:grpSpPr>
                <a:xfrm>
                  <a:off x="4090680" y="1303560"/>
                  <a:ext cx="261720" cy="196200"/>
                  <a:chOff x="4090680" y="1303560"/>
                  <a:chExt cx="261720" cy="19620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409068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409068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409068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4" name=""/>
              <p:cNvGrpSpPr/>
              <p:nvPr/>
            </p:nvGrpSpPr>
            <p:grpSpPr>
              <a:xfrm>
                <a:off x="4403520" y="1303560"/>
                <a:ext cx="348480" cy="212760"/>
                <a:chOff x="4403520" y="1303560"/>
                <a:chExt cx="348480" cy="21276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440352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6" name=""/>
                <p:cNvGrpSpPr/>
                <p:nvPr/>
              </p:nvGrpSpPr>
              <p:grpSpPr>
                <a:xfrm>
                  <a:off x="4486680" y="1303560"/>
                  <a:ext cx="261720" cy="196200"/>
                  <a:chOff x="4486680" y="1303560"/>
                  <a:chExt cx="261720" cy="19620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>
                    <a:off x="448668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48668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8668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0" name=""/>
            <p:cNvGrpSpPr/>
            <p:nvPr/>
          </p:nvGrpSpPr>
          <p:grpSpPr>
            <a:xfrm>
              <a:off x="4800600" y="1128240"/>
              <a:ext cx="1897200" cy="981360"/>
              <a:chOff x="4800600" y="1128240"/>
              <a:chExt cx="1897200" cy="981360"/>
            </a:xfrm>
          </p:grpSpPr>
          <p:sp>
            <p:nvSpPr>
              <p:cNvPr id="921" name=""/>
              <p:cNvSpPr/>
              <p:nvPr/>
            </p:nvSpPr>
            <p:spPr>
              <a:xfrm>
                <a:off x="4800600" y="120024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3388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114520" y="122904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114520" y="117144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14520" y="112824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41584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495400" y="122904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495400" y="117144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95400" y="112824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9708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76640" y="12290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76640" y="117144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76640" y="112824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17796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257520" y="12290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57520" y="117144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257520" y="112824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405120" y="120564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800600" y="154836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88800" y="143892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68360" y="141228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968360" y="135468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68360" y="131112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26968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349240" y="141228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49240" y="13546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49240" y="131112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65056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30120" y="141228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730120" y="13546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730120" y="131112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03144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112080" y="141228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112080" y="135468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112080" y="131112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1523160" y="16268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73200" y="16268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55040" y="16268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158724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6400800" y="1128240"/>
              <a:ext cx="1752480" cy="981000"/>
              <a:chOff x="6400800" y="1128240"/>
              <a:chExt cx="1752480" cy="981000"/>
            </a:xfrm>
          </p:grpSpPr>
          <p:sp>
            <p:nvSpPr>
              <p:cNvPr id="961" name=""/>
              <p:cNvSpPr/>
              <p:nvPr/>
            </p:nvSpPr>
            <p:spPr>
              <a:xfrm>
                <a:off x="6400800" y="120060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61608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690600" y="122940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690600" y="117180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690600" y="112824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96924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042680" y="122940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042680" y="117180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042680" y="112824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32132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394400" y="122940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394400" y="117180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394400" y="112824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7304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46480" y="122940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746480" y="117180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46480" y="112824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886160" y="120384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400800" y="154944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482160" y="143964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555600" y="141300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555600" y="135540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555600" y="131184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83388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907320" y="141300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907320" y="135540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907320" y="131184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18596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259400" y="141300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259400" y="135540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259400" y="131184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53804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12560" y="141300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612560" y="135540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612560" y="131184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6477120" y="160308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7848720" y="2209680"/>
            <a:ext cx="13716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B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752480" y="2286000"/>
            <a:ext cx="48769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63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924680" y="2666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6868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Especial de Desarrollo de Canales por Línea de Negocio de Producto</a:t>
            </a: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   Argentina</a:t>
            </a:r>
            <a:br>
              <a:rPr sz="3200"/>
            </a:b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62120" y="3886200"/>
            <a:ext cx="3124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checkmark" descr=""/>
          <p:cNvPicPr/>
          <p:nvPr/>
        </p:nvPicPr>
        <p:blipFill>
          <a:blip r:embed="rId2"/>
          <a:stretch/>
        </p:blipFill>
        <p:spPr>
          <a:xfrm>
            <a:off x="609480" y="2610000"/>
            <a:ext cx="4572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76320" y="2666880"/>
          <a:ext cx="7924680" cy="403884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6" name=""/>
          <p:cNvGrpSpPr/>
          <p:nvPr/>
        </p:nvGrpSpPr>
        <p:grpSpPr>
          <a:xfrm>
            <a:off x="7924680" y="2954160"/>
            <a:ext cx="1447560" cy="3390120"/>
            <a:chOff x="7924680" y="2954160"/>
            <a:chExt cx="1447560" cy="3390120"/>
          </a:xfrm>
        </p:grpSpPr>
        <p:sp>
          <p:nvSpPr>
            <p:cNvPr id="1007" name=""/>
            <p:cNvSpPr/>
            <p:nvPr/>
          </p:nvSpPr>
          <p:spPr>
            <a:xfrm>
              <a:off x="8000640" y="29541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000640" y="418932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24680" y="56973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000640" y="5317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000640" y="402264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0" y="1523880"/>
            <a:ext cx="8305560" cy="930600"/>
            <a:chOff x="0" y="1523880"/>
            <a:chExt cx="8305560" cy="930600"/>
          </a:xfrm>
        </p:grpSpPr>
        <p:grpSp>
          <p:nvGrpSpPr>
            <p:cNvPr id="1015" name=""/>
            <p:cNvGrpSpPr/>
            <p:nvPr/>
          </p:nvGrpSpPr>
          <p:grpSpPr>
            <a:xfrm>
              <a:off x="48240" y="1523880"/>
              <a:ext cx="1828800" cy="693360"/>
              <a:chOff x="48240" y="1523880"/>
              <a:chExt cx="1828800" cy="6933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8240" y="157500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7288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51000" y="159516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51000" y="155448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1000" y="152388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4116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17840" y="159516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17840" y="155448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17840" y="152388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00872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085040" y="159516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085040" y="155448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085040" y="152388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37592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452600" y="159516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452600" y="155448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452600" y="152388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598400" y="157752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8240" y="182160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32840" y="174384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09520" y="172512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9520" y="168444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09520" y="165348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004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77080" y="172512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77080" y="168444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77080" y="165348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676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943920" y="172512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943920" y="168444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943920" y="165348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2348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312560" y="172512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312560" y="168444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312560" y="165348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1563840" y="1530360"/>
              <a:ext cx="1936800" cy="685440"/>
              <a:chOff x="1563840" y="1530360"/>
              <a:chExt cx="1936800" cy="685440"/>
            </a:xfrm>
          </p:grpSpPr>
          <p:sp>
            <p:nvSpPr>
              <p:cNvPr id="1052" name=""/>
              <p:cNvSpPr/>
              <p:nvPr/>
            </p:nvSpPr>
            <p:spPr>
              <a:xfrm>
                <a:off x="1563840" y="158076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80180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884240" y="160092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884240" y="156060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84240" y="153036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19204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273400" y="160092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273400" y="156060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273400" y="153036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58084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662200" y="160092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62200" y="156060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662200" y="153036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97000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051000" y="160092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051000" y="156060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051000" y="153036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201480" y="158436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563840" y="182412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653840" y="174744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35200" y="172872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35200" y="168876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35200" y="165816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04300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124000" y="172872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124000" y="16887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24000" y="165816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43144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512800" y="172872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512800" y="16887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512800" y="165816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82060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902680" y="172872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902680" y="168876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902680" y="165816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3205440" y="1523880"/>
              <a:ext cx="2023920" cy="691200"/>
              <a:chOff x="3205440" y="1523880"/>
              <a:chExt cx="2023920" cy="691200"/>
            </a:xfrm>
          </p:grpSpPr>
          <p:sp>
            <p:nvSpPr>
              <p:cNvPr id="1088" name=""/>
              <p:cNvSpPr/>
              <p:nvPr/>
            </p:nvSpPr>
            <p:spPr>
              <a:xfrm>
                <a:off x="3205440" y="157464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3454920" y="1523880"/>
                <a:ext cx="357480" cy="148680"/>
                <a:chOff x="3454920" y="152388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345492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3540240" y="1523880"/>
                  <a:ext cx="268560" cy="137520"/>
                  <a:chOff x="3540240" y="152388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354024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54024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54024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3861720" y="1523880"/>
                <a:ext cx="357480" cy="148680"/>
                <a:chOff x="3861720" y="152388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86172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3947040" y="1523880"/>
                  <a:ext cx="268560" cy="137520"/>
                  <a:chOff x="3947040" y="152388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394704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704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4704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1" name=""/>
              <p:cNvGrpSpPr/>
              <p:nvPr/>
            </p:nvGrpSpPr>
            <p:grpSpPr>
              <a:xfrm>
                <a:off x="4268160" y="1523880"/>
                <a:ext cx="357480" cy="148680"/>
                <a:chOff x="4268160" y="1523880"/>
                <a:chExt cx="357480" cy="14868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426816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3" name=""/>
                <p:cNvGrpSpPr/>
                <p:nvPr/>
              </p:nvGrpSpPr>
              <p:grpSpPr>
                <a:xfrm>
                  <a:off x="4353480" y="1523880"/>
                  <a:ext cx="268560" cy="137520"/>
                  <a:chOff x="4353480" y="1523880"/>
                  <a:chExt cx="268560" cy="13752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>
                    <a:off x="435348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35348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35348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7" name=""/>
              <p:cNvGrpSpPr/>
              <p:nvPr/>
            </p:nvGrpSpPr>
            <p:grpSpPr>
              <a:xfrm>
                <a:off x="4674960" y="1523880"/>
                <a:ext cx="357480" cy="148680"/>
                <a:chOff x="4674960" y="1523880"/>
                <a:chExt cx="357480" cy="14868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467496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9" name=""/>
                <p:cNvGrpSpPr/>
                <p:nvPr/>
              </p:nvGrpSpPr>
              <p:grpSpPr>
                <a:xfrm>
                  <a:off x="4760280" y="1523880"/>
                  <a:ext cx="268560" cy="137520"/>
                  <a:chOff x="4760280" y="1523880"/>
                  <a:chExt cx="268560" cy="13752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>
                    <a:off x="476028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76028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76028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13" name=""/>
              <p:cNvSpPr/>
              <p:nvPr/>
            </p:nvSpPr>
            <p:spPr>
              <a:xfrm>
                <a:off x="4917240" y="157824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05440" y="181980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3299040" y="1652760"/>
                <a:ext cx="357480" cy="148680"/>
                <a:chOff x="3299040" y="1652760"/>
                <a:chExt cx="357480" cy="14868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329904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17" name=""/>
                <p:cNvGrpSpPr/>
                <p:nvPr/>
              </p:nvGrpSpPr>
              <p:grpSpPr>
                <a:xfrm>
                  <a:off x="3384360" y="1652760"/>
                  <a:ext cx="268560" cy="137520"/>
                  <a:chOff x="3384360" y="1652760"/>
                  <a:chExt cx="268560" cy="13752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>
                    <a:off x="338436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38436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38436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1" name=""/>
              <p:cNvGrpSpPr/>
              <p:nvPr/>
            </p:nvGrpSpPr>
            <p:grpSpPr>
              <a:xfrm>
                <a:off x="3705480" y="1652760"/>
                <a:ext cx="357480" cy="148680"/>
                <a:chOff x="3705480" y="1652760"/>
                <a:chExt cx="357480" cy="14868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370548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3" name=""/>
                <p:cNvGrpSpPr/>
                <p:nvPr/>
              </p:nvGrpSpPr>
              <p:grpSpPr>
                <a:xfrm>
                  <a:off x="3790800" y="1652760"/>
                  <a:ext cx="268560" cy="137520"/>
                  <a:chOff x="3790800" y="1652760"/>
                  <a:chExt cx="268560" cy="137520"/>
                </a:xfrm>
              </p:grpSpPr>
              <p:sp>
                <p:nvSpPr>
                  <p:cNvPr id="1124" name=""/>
                  <p:cNvSpPr/>
                  <p:nvPr/>
                </p:nvSpPr>
                <p:spPr>
                  <a:xfrm>
                    <a:off x="379080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79080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79080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7" name=""/>
              <p:cNvGrpSpPr/>
              <p:nvPr/>
            </p:nvGrpSpPr>
            <p:grpSpPr>
              <a:xfrm>
                <a:off x="4111920" y="1652760"/>
                <a:ext cx="357480" cy="148680"/>
                <a:chOff x="4111920" y="1652760"/>
                <a:chExt cx="357480" cy="1486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411192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9" name=""/>
                <p:cNvGrpSpPr/>
                <p:nvPr/>
              </p:nvGrpSpPr>
              <p:grpSpPr>
                <a:xfrm>
                  <a:off x="4197240" y="1652760"/>
                  <a:ext cx="268560" cy="137520"/>
                  <a:chOff x="4197240" y="1652760"/>
                  <a:chExt cx="268560" cy="13752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>
                    <a:off x="419724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19724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19724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3" name=""/>
              <p:cNvGrpSpPr/>
              <p:nvPr/>
            </p:nvGrpSpPr>
            <p:grpSpPr>
              <a:xfrm>
                <a:off x="4519080" y="1652760"/>
                <a:ext cx="357480" cy="148680"/>
                <a:chOff x="4519080" y="1652760"/>
                <a:chExt cx="357480" cy="14868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451908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35" name=""/>
                <p:cNvGrpSpPr/>
                <p:nvPr/>
              </p:nvGrpSpPr>
              <p:grpSpPr>
                <a:xfrm>
                  <a:off x="4604400" y="1652760"/>
                  <a:ext cx="268560" cy="137520"/>
                  <a:chOff x="4604400" y="1652760"/>
                  <a:chExt cx="268560" cy="13752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460440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60440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60440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39" name=""/>
            <p:cNvGrpSpPr/>
            <p:nvPr/>
          </p:nvGrpSpPr>
          <p:grpSpPr>
            <a:xfrm>
              <a:off x="4880880" y="1531440"/>
              <a:ext cx="1946520" cy="685800"/>
              <a:chOff x="4880880" y="1531440"/>
              <a:chExt cx="1946520" cy="68580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80880" y="158184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1202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203080" y="160164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203080" y="156168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203080" y="153144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51232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593680" y="160164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593680" y="156168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593680" y="153144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9032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84640" y="160164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984640" y="156168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984640" y="153144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938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375600" y="160164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375600" y="156168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375600" y="153144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527160" y="158544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880880" y="182520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971240" y="174852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052960" y="172980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052960" y="168984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052960" y="165924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36220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3920" y="172980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3920" y="168984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43920" y="165924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5280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34520" y="172980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34520" y="168984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34520" y="165924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4376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226560" y="172980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226560" y="168984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226560" y="165924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5" name=""/>
            <p:cNvSpPr/>
            <p:nvPr/>
          </p:nvSpPr>
          <p:spPr>
            <a:xfrm>
              <a:off x="1839240" y="192888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37800" y="192888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07840" y="192888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0" y="185220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6507720" y="1531440"/>
              <a:ext cx="1797840" cy="685800"/>
              <a:chOff x="6507720" y="1531440"/>
              <a:chExt cx="1797840" cy="685800"/>
            </a:xfrm>
          </p:grpSpPr>
          <p:sp>
            <p:nvSpPr>
              <p:cNvPr id="1180" name=""/>
              <p:cNvSpPr/>
              <p:nvPr/>
            </p:nvSpPr>
            <p:spPr>
              <a:xfrm>
                <a:off x="6507720" y="158184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72876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805080" y="160200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805080" y="156204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805080" y="153144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09092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166160" y="160200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166160" y="156204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66160" y="153144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45200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27240" y="160200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27240" y="156204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527240" y="153144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81272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888320" y="160200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888320" y="156204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888320" y="153144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031600" y="158436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507720" y="182592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591240" y="174888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666480" y="173052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66480" y="169020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666480" y="165960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95232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027560" y="173052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027560" y="169020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27560" y="165960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31340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388640" y="173052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88640" y="169020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88640" y="165960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67448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750800" y="173052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750800" y="169020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750800" y="165960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6646680" y="186336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2666880" y="304812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350532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666880" y="434340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480060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666880" y="571500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" y="617220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04920" y="3200400"/>
            <a:ext cx="1371600" cy="5335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04920" y="4495680"/>
            <a:ext cx="1371600" cy="5335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04920" y="5800680"/>
            <a:ext cx="1371600" cy="6001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76320" y="2286000"/>
            <a:ext cx="8000640" cy="533520"/>
            <a:chOff x="76320" y="2286000"/>
            <a:chExt cx="8000640" cy="533520"/>
          </a:xfrm>
        </p:grpSpPr>
        <p:sp>
          <p:nvSpPr>
            <p:cNvPr id="1226" name=""/>
            <p:cNvSpPr/>
            <p:nvPr/>
          </p:nvSpPr>
          <p:spPr>
            <a:xfrm>
              <a:off x="7632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716920" y="228600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35824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9" name=""/>
          <p:cNvSpPr/>
          <p:nvPr/>
        </p:nvSpPr>
        <p:spPr>
          <a:xfrm>
            <a:off x="0" y="23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34120" y="2286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5960" y="3805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br>
              <a:rPr sz="3200"/>
            </a:br>
            <a:r>
              <a:rPr b="1" lang="es-AR" sz="2400" spc="-1" strike="noStrike">
                <a:solidFill>
                  <a:srgbClr val="ebb11f"/>
                </a:solidFill>
                <a:latin typeface="Arial"/>
              </a:rPr>
              <a:t>Technicals Certifications</a:t>
            </a:r>
            <a:endParaRPr b="1" lang="en-US" sz="24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76320" y="2666880"/>
          <a:ext cx="7924680" cy="419112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4" name=""/>
          <p:cNvGrpSpPr/>
          <p:nvPr/>
        </p:nvGrpSpPr>
        <p:grpSpPr>
          <a:xfrm>
            <a:off x="7924680" y="2954160"/>
            <a:ext cx="1447560" cy="3390120"/>
            <a:chOff x="7924680" y="2954160"/>
            <a:chExt cx="1447560" cy="3390120"/>
          </a:xfrm>
        </p:grpSpPr>
        <p:sp>
          <p:nvSpPr>
            <p:cNvPr id="1235" name=""/>
            <p:cNvSpPr/>
            <p:nvPr/>
          </p:nvSpPr>
          <p:spPr>
            <a:xfrm>
              <a:off x="8000640" y="29541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000640" y="4189320"/>
              <a:ext cx="137160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24680" y="56973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000640" y="5317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000640" y="402264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1243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1244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280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316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9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320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3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5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326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9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1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332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5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7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338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41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5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9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1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5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7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1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63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67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368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3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408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3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76320" y="2286000"/>
            <a:ext cx="8000640" cy="533520"/>
            <a:chOff x="76320" y="2286000"/>
            <a:chExt cx="8000640" cy="533520"/>
          </a:xfrm>
        </p:grpSpPr>
        <p:sp>
          <p:nvSpPr>
            <p:cNvPr id="1445" name=""/>
            <p:cNvSpPr/>
            <p:nvPr/>
          </p:nvSpPr>
          <p:spPr>
            <a:xfrm>
              <a:off x="7632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16920" y="228600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5824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0" y="23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334120" y="2286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638680" y="320040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 ASE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048120" y="449568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.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638680" y="44956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 Ful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048120" y="5486400"/>
            <a:ext cx="19810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s. 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(319) Multivend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StorageWorks UNi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638680" y="5486400"/>
            <a:ext cx="198144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048120" y="320040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.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85800" y="320976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451008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36480" y="588168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686800" y="1752480"/>
            <a:ext cx="30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1" name=""/>
          <p:cNvGrpSpPr/>
          <p:nvPr/>
        </p:nvGrpSpPr>
        <p:grpSpPr>
          <a:xfrm>
            <a:off x="8001000" y="2666880"/>
            <a:ext cx="1371240" cy="3390120"/>
            <a:chOff x="8001000" y="2666880"/>
            <a:chExt cx="1371240" cy="3390120"/>
          </a:xfrm>
        </p:grpSpPr>
        <p:sp>
          <p:nvSpPr>
            <p:cNvPr id="1462" name=""/>
            <p:cNvSpPr/>
            <p:nvPr/>
          </p:nvSpPr>
          <p:spPr>
            <a:xfrm>
              <a:off x="8072640" y="2666880"/>
              <a:ext cx="1299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072640" y="3902040"/>
              <a:ext cx="129960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001000" y="5410080"/>
              <a:ext cx="1299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072640" y="5030640"/>
              <a:ext cx="115524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072640" y="3735360"/>
              <a:ext cx="115524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8077320" y="2590920"/>
            <a:ext cx="11430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410080" y="6400800"/>
            <a:ext cx="2286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124080" y="6172200"/>
            <a:ext cx="1828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br>
              <a:rPr sz="3200"/>
            </a:b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Product Sales Knowledge</a:t>
            </a:r>
            <a:endParaRPr b="1" lang="en-US" sz="24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76320" y="2590920"/>
          <a:ext cx="8001000" cy="42670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2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0" y="1436760"/>
            <a:ext cx="8305560" cy="930600"/>
            <a:chOff x="0" y="1436760"/>
            <a:chExt cx="8305560" cy="930600"/>
          </a:xfrm>
        </p:grpSpPr>
        <p:grpSp>
          <p:nvGrpSpPr>
            <p:cNvPr id="1474" name=""/>
            <p:cNvGrpSpPr/>
            <p:nvPr/>
          </p:nvGrpSpPr>
          <p:grpSpPr>
            <a:xfrm>
              <a:off x="48240" y="1436760"/>
              <a:ext cx="1828800" cy="693360"/>
              <a:chOff x="48240" y="1436760"/>
              <a:chExt cx="1828800" cy="693360"/>
            </a:xfrm>
          </p:grpSpPr>
          <p:sp>
            <p:nvSpPr>
              <p:cNvPr id="1475" name=""/>
              <p:cNvSpPr/>
              <p:nvPr/>
            </p:nvSpPr>
            <p:spPr>
              <a:xfrm>
                <a:off x="48240" y="148788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7288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51000" y="150804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51000" y="146736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51000" y="143676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4116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17840" y="150804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17840" y="146736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17840" y="143676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00872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085040" y="150804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085040" y="146736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085040" y="143676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37592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452600" y="150804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452600" y="146736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452600" y="143676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598400" y="149040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8240" y="173448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32840" y="165672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09520" y="163800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09520" y="159732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09520" y="156636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004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77080" y="163800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77080" y="159732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77080" y="156636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676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943920" y="163800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943920" y="159732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943920" y="156636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2348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312560" y="163800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312560" y="159732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312560" y="156636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1563840" y="1443240"/>
              <a:ext cx="1936800" cy="685440"/>
              <a:chOff x="1563840" y="1443240"/>
              <a:chExt cx="1936800" cy="685440"/>
            </a:xfrm>
          </p:grpSpPr>
          <p:sp>
            <p:nvSpPr>
              <p:cNvPr id="1511" name=""/>
              <p:cNvSpPr/>
              <p:nvPr/>
            </p:nvSpPr>
            <p:spPr>
              <a:xfrm>
                <a:off x="1563840" y="149364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80180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884240" y="151380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884240" y="147348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884240" y="144324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19204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273400" y="151380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273400" y="147348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273400" y="144324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58084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662200" y="151380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662200" y="147348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662200" y="144324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97000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051000" y="151380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051000" y="147348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051000" y="144324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201480" y="149724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563840" y="173700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653840" y="166032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735200" y="164160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735200" y="160164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735200" y="157104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04300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124000" y="164160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124000" y="160164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124000" y="157104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43144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512800" y="164160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512800" y="160164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512800" y="157104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82060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902680" y="164160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02680" y="160164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2680" y="157104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3205440" y="1436760"/>
              <a:ext cx="2023920" cy="691200"/>
              <a:chOff x="3205440" y="1436760"/>
              <a:chExt cx="2023920" cy="691200"/>
            </a:xfrm>
          </p:grpSpPr>
          <p:sp>
            <p:nvSpPr>
              <p:cNvPr id="1547" name=""/>
              <p:cNvSpPr/>
              <p:nvPr/>
            </p:nvSpPr>
            <p:spPr>
              <a:xfrm>
                <a:off x="3205440" y="148752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8" name=""/>
              <p:cNvGrpSpPr/>
              <p:nvPr/>
            </p:nvGrpSpPr>
            <p:grpSpPr>
              <a:xfrm>
                <a:off x="3454920" y="1436760"/>
                <a:ext cx="357480" cy="148680"/>
                <a:chOff x="3454920" y="1436760"/>
                <a:chExt cx="357480" cy="14868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345492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"/>
                <p:cNvGrpSpPr/>
                <p:nvPr/>
              </p:nvGrpSpPr>
              <p:grpSpPr>
                <a:xfrm>
                  <a:off x="3540240" y="1436760"/>
                  <a:ext cx="268560" cy="137520"/>
                  <a:chOff x="3540240" y="1436760"/>
                  <a:chExt cx="268560" cy="13752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354024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354024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354024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4" name=""/>
              <p:cNvGrpSpPr/>
              <p:nvPr/>
            </p:nvGrpSpPr>
            <p:grpSpPr>
              <a:xfrm>
                <a:off x="3861720" y="1436760"/>
                <a:ext cx="357480" cy="148680"/>
                <a:chOff x="3861720" y="1436760"/>
                <a:chExt cx="357480" cy="14868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386172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6" name=""/>
                <p:cNvGrpSpPr/>
                <p:nvPr/>
              </p:nvGrpSpPr>
              <p:grpSpPr>
                <a:xfrm>
                  <a:off x="3947040" y="1436760"/>
                  <a:ext cx="268560" cy="137520"/>
                  <a:chOff x="3947040" y="1436760"/>
                  <a:chExt cx="268560" cy="137520"/>
                </a:xfrm>
              </p:grpSpPr>
              <p:sp>
                <p:nvSpPr>
                  <p:cNvPr id="1557" name=""/>
                  <p:cNvSpPr/>
                  <p:nvPr/>
                </p:nvSpPr>
                <p:spPr>
                  <a:xfrm>
                    <a:off x="394704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394704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394704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0" name=""/>
              <p:cNvGrpSpPr/>
              <p:nvPr/>
            </p:nvGrpSpPr>
            <p:grpSpPr>
              <a:xfrm>
                <a:off x="4268160" y="1436760"/>
                <a:ext cx="357480" cy="148680"/>
                <a:chOff x="4268160" y="1436760"/>
                <a:chExt cx="357480" cy="1486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426816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2" name=""/>
                <p:cNvGrpSpPr/>
                <p:nvPr/>
              </p:nvGrpSpPr>
              <p:grpSpPr>
                <a:xfrm>
                  <a:off x="4353480" y="1436760"/>
                  <a:ext cx="268560" cy="137520"/>
                  <a:chOff x="4353480" y="1436760"/>
                  <a:chExt cx="268560" cy="13752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>
                    <a:off x="435348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435348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435348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6" name=""/>
              <p:cNvGrpSpPr/>
              <p:nvPr/>
            </p:nvGrpSpPr>
            <p:grpSpPr>
              <a:xfrm>
                <a:off x="4674960" y="1436760"/>
                <a:ext cx="357480" cy="148680"/>
                <a:chOff x="4674960" y="1436760"/>
                <a:chExt cx="357480" cy="1486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67496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8" name=""/>
                <p:cNvGrpSpPr/>
                <p:nvPr/>
              </p:nvGrpSpPr>
              <p:grpSpPr>
                <a:xfrm>
                  <a:off x="4760280" y="1436760"/>
                  <a:ext cx="268560" cy="137520"/>
                  <a:chOff x="4760280" y="1436760"/>
                  <a:chExt cx="268560" cy="13752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476028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76028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76028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2" name=""/>
              <p:cNvSpPr/>
              <p:nvPr/>
            </p:nvSpPr>
            <p:spPr>
              <a:xfrm>
                <a:off x="4917240" y="149112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05440" y="173268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3299040" y="1565640"/>
                <a:ext cx="357480" cy="148680"/>
                <a:chOff x="3299040" y="1565640"/>
                <a:chExt cx="357480" cy="14868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329904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3384360" y="1565640"/>
                  <a:ext cx="268560" cy="137520"/>
                  <a:chOff x="3384360" y="1565640"/>
                  <a:chExt cx="268560" cy="13752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338436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338436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338436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0" name=""/>
              <p:cNvGrpSpPr/>
              <p:nvPr/>
            </p:nvGrpSpPr>
            <p:grpSpPr>
              <a:xfrm>
                <a:off x="3705480" y="1565640"/>
                <a:ext cx="357480" cy="148680"/>
                <a:chOff x="3705480" y="1565640"/>
                <a:chExt cx="357480" cy="14868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370548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2" name=""/>
                <p:cNvGrpSpPr/>
                <p:nvPr/>
              </p:nvGrpSpPr>
              <p:grpSpPr>
                <a:xfrm>
                  <a:off x="3790800" y="1565640"/>
                  <a:ext cx="268560" cy="137520"/>
                  <a:chOff x="3790800" y="1565640"/>
                  <a:chExt cx="268560" cy="137520"/>
                </a:xfrm>
              </p:grpSpPr>
              <p:sp>
                <p:nvSpPr>
                  <p:cNvPr id="1583" name=""/>
                  <p:cNvSpPr/>
                  <p:nvPr/>
                </p:nvSpPr>
                <p:spPr>
                  <a:xfrm>
                    <a:off x="379080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379080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379080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6" name=""/>
              <p:cNvGrpSpPr/>
              <p:nvPr/>
            </p:nvGrpSpPr>
            <p:grpSpPr>
              <a:xfrm>
                <a:off x="4111920" y="1565640"/>
                <a:ext cx="357480" cy="148680"/>
                <a:chOff x="4111920" y="1565640"/>
                <a:chExt cx="357480" cy="14868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411192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8" name=""/>
                <p:cNvGrpSpPr/>
                <p:nvPr/>
              </p:nvGrpSpPr>
              <p:grpSpPr>
                <a:xfrm>
                  <a:off x="4197240" y="1565640"/>
                  <a:ext cx="268560" cy="137520"/>
                  <a:chOff x="4197240" y="1565640"/>
                  <a:chExt cx="268560" cy="137520"/>
                </a:xfrm>
              </p:grpSpPr>
              <p:sp>
                <p:nvSpPr>
                  <p:cNvPr id="1589" name=""/>
                  <p:cNvSpPr/>
                  <p:nvPr/>
                </p:nvSpPr>
                <p:spPr>
                  <a:xfrm>
                    <a:off x="419724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419724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419724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"/>
              <p:cNvGrpSpPr/>
              <p:nvPr/>
            </p:nvGrpSpPr>
            <p:grpSpPr>
              <a:xfrm>
                <a:off x="4519080" y="1565640"/>
                <a:ext cx="357480" cy="148680"/>
                <a:chOff x="4519080" y="1565640"/>
                <a:chExt cx="357480" cy="148680"/>
              </a:xfrm>
            </p:grpSpPr>
            <p:sp>
              <p:nvSpPr>
                <p:cNvPr id="1593" name=""/>
                <p:cNvSpPr/>
                <p:nvPr/>
              </p:nvSpPr>
              <p:spPr>
                <a:xfrm>
                  <a:off x="451908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"/>
                <p:cNvGrpSpPr/>
                <p:nvPr/>
              </p:nvGrpSpPr>
              <p:grpSpPr>
                <a:xfrm>
                  <a:off x="4604400" y="1565640"/>
                  <a:ext cx="268560" cy="137520"/>
                  <a:chOff x="4604400" y="1565640"/>
                  <a:chExt cx="268560" cy="137520"/>
                </a:xfrm>
              </p:grpSpPr>
              <p:sp>
                <p:nvSpPr>
                  <p:cNvPr id="1595" name=""/>
                  <p:cNvSpPr/>
                  <p:nvPr/>
                </p:nvSpPr>
                <p:spPr>
                  <a:xfrm>
                    <a:off x="460440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460440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460440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98" name=""/>
            <p:cNvGrpSpPr/>
            <p:nvPr/>
          </p:nvGrpSpPr>
          <p:grpSpPr>
            <a:xfrm>
              <a:off x="4880880" y="1444320"/>
              <a:ext cx="1946520" cy="685800"/>
              <a:chOff x="4880880" y="1444320"/>
              <a:chExt cx="1946520" cy="685800"/>
            </a:xfrm>
          </p:grpSpPr>
          <p:sp>
            <p:nvSpPr>
              <p:cNvPr id="1599" name=""/>
              <p:cNvSpPr/>
              <p:nvPr/>
            </p:nvSpPr>
            <p:spPr>
              <a:xfrm>
                <a:off x="4880880" y="149472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1202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203080" y="151452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203080" y="147456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203080" y="144432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51232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593680" y="151452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593680" y="147456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593680" y="144432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9032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984640" y="151452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984640" y="147456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984640" y="144432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2938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375600" y="151452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75600" y="147456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375600" y="144432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527160" y="149832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880880" y="173808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971240" y="16614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052960" y="164268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052960" y="16027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052960" y="157212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36220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443920" y="164268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443920" y="16027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443920" y="157212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75280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834520" y="164268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834520" y="16027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834520" y="157212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14376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226560" y="164268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226560" y="16027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226560" y="157212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4" name=""/>
            <p:cNvSpPr/>
            <p:nvPr/>
          </p:nvSpPr>
          <p:spPr>
            <a:xfrm>
              <a:off x="1839240" y="184176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37800" y="184176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307840" y="184176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0" y="17650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6507720" y="1444320"/>
              <a:ext cx="1797840" cy="685800"/>
              <a:chOff x="6507720" y="1444320"/>
              <a:chExt cx="1797840" cy="685800"/>
            </a:xfrm>
          </p:grpSpPr>
          <p:sp>
            <p:nvSpPr>
              <p:cNvPr id="1639" name=""/>
              <p:cNvSpPr/>
              <p:nvPr/>
            </p:nvSpPr>
            <p:spPr>
              <a:xfrm>
                <a:off x="6507720" y="149472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72876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805080" y="151488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805080" y="147492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805080" y="144432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09092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166160" y="151488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66160" y="147492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66160" y="144432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45200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527240" y="151488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527240" y="147492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527240" y="144432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81272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888320" y="151488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888320" y="147492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888320" y="144432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031600" y="149724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507720" y="173880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591240" y="166176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666480" y="164340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666480" y="160308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666480" y="157248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95232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027560" y="164340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027560" y="160308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027560" y="157248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31340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388640" y="164340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388640" y="160308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388640" y="157248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67448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750800" y="164340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750800" y="160308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750800" y="157248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4" name=""/>
            <p:cNvSpPr/>
            <p:nvPr/>
          </p:nvSpPr>
          <p:spPr>
            <a:xfrm>
              <a:off x="6646680" y="17762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8077320" y="6858000"/>
            <a:ext cx="11430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57200" y="327672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76320" y="2209680"/>
            <a:ext cx="8000640" cy="533520"/>
            <a:chOff x="76320" y="2209680"/>
            <a:chExt cx="8000640" cy="533520"/>
          </a:xfrm>
        </p:grpSpPr>
        <p:sp>
          <p:nvSpPr>
            <p:cNvPr id="1678" name=""/>
            <p:cNvSpPr/>
            <p:nvPr/>
          </p:nvSpPr>
          <p:spPr>
            <a:xfrm>
              <a:off x="76320" y="220968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716920" y="220968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58240" y="220968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1" name=""/>
          <p:cNvSpPr/>
          <p:nvPr/>
        </p:nvSpPr>
        <p:spPr>
          <a:xfrm>
            <a:off x="-76320" y="2224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59092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525780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019920" y="3048120"/>
            <a:ext cx="12952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486400" y="4343400"/>
            <a:ext cx="2209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 Full Line (55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200400" y="411480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457200" y="449568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57200" y="601992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200400" y="556272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019920" y="3809880"/>
            <a:ext cx="129528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5410080" y="5943600"/>
            <a:ext cx="22100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AN Solut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ast Trak (560--5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410080" y="5486400"/>
            <a:ext cx="22860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Track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 (559) (44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410080" y="5105520"/>
            <a:ext cx="22860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Prolia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990720" y="28954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990720" y="40384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990720" y="548640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7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stavo</cp:lastModifiedBy>
  <cp:lastPrinted>2000-08-21T15:23:38Z</cp:lastPrinted>
  <dcterms:modified xsi:type="dcterms:W3CDTF">2001-11-20T13:06:57Z</dcterms:modified>
  <cp:revision>559</cp:revision>
  <dc:subject/>
  <dc:title>Michael Capellas</dc:title>
</cp:coreProperties>
</file>